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9.png" ContentType="image/png"/>
  <Override PartName="/ppt/media/image22.jpeg" ContentType="image/jpe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572-EA9B-4542-B036-14A83CEB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3E7-30ED-484F-A635-DF6E9FAC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C5F-AC36-45B2-BF3F-A2AAF706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9DF-7C3C-4C76-BCDE-13C7C37C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740B-6A53-4BAA-BD18-18C27A80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4407-683C-4127-8008-814A7E3C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32B6-066B-4682-9021-74E5654F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F2DA-5632-42F8-9696-BDC240C2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4E3D-1CE1-4E26-9767-A6CFB824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B0CA-1B82-4D15-A42E-CAA27090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E29F-FCD0-471D-814B-1A59F97D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E70-9E49-4341-B3FA-F74B9F9E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E303-6B7C-412B-8143-480D9087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3AF3-F072-4A7A-9DF6-61DFAD95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529C-6090-4A77-9D75-974A872F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8082-6598-4B7B-BBFA-B2E5F919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92A2-3549-445D-89B5-972B4E07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518-5092-4A36-B6F1-1DFC552E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459-1EEB-42C0-9041-BEF06383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DD1-B3F2-42E9-A6E5-87AA919D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A76-9FE2-48E8-9A99-6F918BD7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4E49-A566-4BE0-9AA2-00A786C4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28A-8D23-4475-8D17-F0BAEF6C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200-0CCB-414D-B6B1-E878DDA3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06A8-D0AF-4F5A-8CFB-E16AAA7D0B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greencellsfade3-rev" descr=""/>
          <p:cNvPicPr/>
          <p:nvPr/>
        </p:nvPicPr>
        <p:blipFill>
          <a:blip r:embed="rId2"/>
          <a:stretch/>
        </p:blipFill>
        <p:spPr>
          <a:xfrm>
            <a:off x="0" y="5308560"/>
            <a:ext cx="9144000" cy="1549440"/>
          </a:xfrm>
          <a:prstGeom prst="rect">
            <a:avLst/>
          </a:prstGeom>
          <a:ln w="0">
            <a:noFill/>
          </a:ln>
        </p:spPr>
      </p:pic>
      <p:pic>
        <p:nvPicPr>
          <p:cNvPr id="4" name="gdcpowerpointheader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B240-AB2B-42FA-8903-3AB0C008DD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reencellsfade3-rev" descr=""/>
          <p:cNvPicPr/>
          <p:nvPr/>
        </p:nvPicPr>
        <p:blipFill>
          <a:blip r:embed="rId2"/>
          <a:stretch/>
        </p:blipFill>
        <p:spPr>
          <a:xfrm>
            <a:off x="0" y="5308560"/>
            <a:ext cx="9144000" cy="1549440"/>
          </a:xfrm>
          <a:prstGeom prst="rect">
            <a:avLst/>
          </a:prstGeom>
          <a:ln w="0">
            <a:noFill/>
          </a:ln>
        </p:spPr>
      </p:pic>
      <p:pic>
        <p:nvPicPr>
          <p:cNvPr id="47" name="gdcpowerpointheader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BlissRegular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BlissRegular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nkasha-games.com/" TargetMode="External"/><Relationship Id="rId2" Type="http://schemas.openxmlformats.org/officeDocument/2006/relationships/hyperlink" Target="http://www.daionet.gr.jp/~masa/" TargetMode="External"/><Relationship Id="rId3" Type="http://schemas.openxmlformats.org/officeDocument/2006/relationships/hyperlink" Target="http://www.daionet.gr.jp/~masa/" TargetMode="External"/><Relationship Id="rId4" Type="http://schemas.openxmlformats.org/officeDocument/2006/relationships/hyperlink" Target="http://www.daionet.gr.jp/~masa/" TargetMode="External"/><Relationship Id="rId5" Type="http://schemas.openxmlformats.org/officeDocument/2006/relationships/hyperlink" Target="http://www.daionet.gr.jp/~masa/" TargetMode="External"/><Relationship Id="rId6" Type="http://schemas.openxmlformats.org/officeDocument/2006/relationships/hyperlink" Target="http://www.daionet.gr.jp/~masa/" TargetMode="External"/><Relationship Id="rId7" Type="http://schemas.openxmlformats.org/officeDocument/2006/relationships/hyperlink" Target="http://www.daionet.gr.jp/~masa/" TargetMode="External"/><Relationship Id="rId8" Type="http://schemas.openxmlformats.org/officeDocument/2006/relationships/hyperlink" Target="http://www.daionet.gr.jp/~masa/" TargetMode="External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17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s.utah.edu/~reinhard/cdrom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utah.edu/~reinhard/cdrom/" TargetMode="External"/><Relationship Id="rId2" Type="http://schemas.openxmlformats.org/officeDocument/2006/relationships/hyperlink" Target="http://www.ati.com/developer/techpapers.html" TargetMode="External"/><Relationship Id="rId3" Type="http://schemas.openxmlformats.org/officeDocument/2006/relationships/hyperlink" Target="http://msdn.microsoft.com/library/default.asp?url=/library/en-us/directx9_c/directx/graphics/TutorialsAndSamples/HDRLighting.asp" TargetMode="External"/><Relationship Id="rId4" Type="http://schemas.openxmlformats.org/officeDocument/2006/relationships/hyperlink" Target="http://msdn.microsoft.com/library/default.asp?url=/library/en-us/directx9_c/directx/graphics/TutorialsAndSamples/HDRLighting.asp" TargetMode="External"/><Relationship Id="rId5" Type="http://schemas.openxmlformats.org/officeDocument/2006/relationships/hyperlink" Target="http://msdn.microsoft.com/library/default.asp?url=/library/en-us/directx9_c/directx/graphics/TutorialsAndSamples/HDRLighting.asp" TargetMode="External"/><Relationship Id="rId6" Type="http://schemas.openxmlformats.org/officeDocument/2006/relationships/hyperlink" Target="http://www.debevec.org/" TargetMode="External"/><Relationship Id="rId7" Type="http://schemas.openxmlformats.org/officeDocument/2006/relationships/hyperlink" Target="http://www.debevec.org/" TargetMode="External"/><Relationship Id="rId8" Type="http://schemas.openxmlformats.org/officeDocument/2006/relationships/hyperlink" Target="http://www.debevec.org/" TargetMode="External"/><Relationship Id="rId9" Type="http://schemas.openxmlformats.org/officeDocument/2006/relationships/hyperlink" Target="http://www.daionet.gr.jp/~masa/column/2003-03-21.html" TargetMode="External"/><Relationship Id="rId10" Type="http://schemas.openxmlformats.org/officeDocument/2006/relationships/hyperlink" Target="http://www.daionet.gr.jp/~masa/column/2003-03-21.html" TargetMode="External"/><Relationship Id="rId11" Type="http://schemas.openxmlformats.org/officeDocument/2006/relationships/hyperlink" Target="http://www.daionet.gr.jp/~masa/column/2003-03-21.html" TargetMode="External"/><Relationship Id="rId12" Type="http://schemas.openxmlformats.org/officeDocument/2006/relationships/hyperlink" Target="http://www.daionet.gr.jp/~masa/column/2003-03-21.html" TargetMode="External"/><Relationship Id="rId13" Type="http://schemas.openxmlformats.org/officeDocument/2006/relationships/hyperlink" Target="http://www.daionet.gr.jp/~masa/column/2003-03-21.html" TargetMode="External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actical Implementation of High Dynamic Range Rendering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114800"/>
            <a:ext cx="5181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lr oSVbN"/>
              </a:rPr>
              <a:t>Masaki Kawas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lr oSVbN"/>
              </a:rPr>
              <a:t>BUNKASHA GAME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lr oSVbN"/>
              </a:rPr>
              <a:t>BUNKASHA PUBLISHING CO.,LTD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/>
              </a:rPr>
              <a:t>http://www.bunkasha-games.com</a:t>
            </a:r>
            <a:endParaRPr b="0" lang="en-US" sz="14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/>
              </a:rPr>
              <a:t>http://www.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3"/>
              </a:rPr>
              <a:t>daionet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4"/>
              </a:rPr>
              <a:t>.gr.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5"/>
              </a:rPr>
              <a:t>jp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6"/>
              </a:rPr>
              <a:t>/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7"/>
              </a:rPr>
              <a:t>~masa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8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Dynamic Rang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ratio of the greatest value to the smallest value that can be represented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isplayable im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 dynamic range (LDR)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ame buffer of absolute luminan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nder the scene in absolute luminance spa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&gt;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32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presents all luminances directl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ame buffer of relative luminan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pply exposure scaling during rendering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&gt;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15~16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ark regions are not important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Frame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or glare genera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When rendering with relative luminances: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deally, more than 2</a:t>
            </a:r>
            <a:r>
              <a:rPr b="0" lang="ja-JP" sz="28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15~16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 game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12~13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4,000~10,000) is acceptabl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Environment Map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Very important for representing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alistic specular reflec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azzling specular reflec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pecular reflectance of nonmetal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lectance in the normal direction is typic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ess than 4%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right light remains bright after such low reflec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o maintain dazzles after reflection of ~1-4%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ynamic range of more than 10,000 or 20,000 is necessar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Implementation on DX8 Hardwar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We have no choice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 1.x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teger operations onl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DR buffer format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precision buffers onl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 alpha channel as luminance informa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ake it to achieve believable appearan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te calculation is not feasibl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Fake HDR Pixel Shader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lossy reflection materia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1752480"/>
            <a:ext cx="51051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ps_1_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ad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v0, t2,  v1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cale the primary diffuse color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hadow/light map, and add the result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other per-vertex ligh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0.a,  v1.a, t0.a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cale the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by gloss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t0, r0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Modulate diffuse color with decal 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a,  t0.a, t1.a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0.a =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envmap lum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1.rgb,  t1, c0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Modulate envmap with specular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.a,  r0.a, t1.a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Envmap brightness parame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1.a =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envmap luminance * gloss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rp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t0.a,  t1, r0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eflect the envmap by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.a,  r1.a, c0.a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Envmap brightness parame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1.a =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envmap luminance * gloss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Clamp(gloss * 2, 0, 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rp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r1.a,  t1, r0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Output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Interpolate the envmap color and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esult of LDR computation, based 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he envmap brightness parameter (r1.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rp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a,  r1.a,  t1.a, r0.a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Output luminance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438280"/>
            <a:ext cx="32004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v0.rgb : Diffuse color of primary ligh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v1.rgb : Color for other lights/ambi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         pre-scaled by (exposure * 0.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v1.a   : Specular reflectance (Fresn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0.rgb : Decal texture (for diffu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0.a   : Gloss map (for specula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1.rgb : Envmap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1.a   : Envmap lum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2.rgb : Shadow/light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0.rgb : Specular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0.a   : Clamp(gloss * 2, 0, 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Generating Displayable Imag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xtract high-luminance reg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reshold</a:t>
            </a: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~0.4-0.5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glar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erence: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Kawase, Masaki, </a:t>
            </a:r>
            <a:r>
              <a:rPr b="0" i="1" lang="ja-JP" sz="16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“Frame Buffer Postprocessing Effects in DOUBLE-S.T.E.A.L (Wreckless)”</a:t>
            </a:r>
            <a:endParaRPr b="0" lang="en-US" sz="1600" spc="-1" strike="noStrike">
              <a:solidFill>
                <a:srgbClr val="000000"/>
              </a:solidFill>
              <a:latin typeface="BlissRegula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a displayable im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alculate the luminance from the frame buff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dd the result of glare generation to the luminan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76520" y="5486400"/>
                <a:ext cx="57178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ose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g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gb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95280" y="2209680"/>
                <a:ext cx="49532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la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rgb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resho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Notes on DX8 Implementa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te calculation is not feasibl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ow to make it believable by fak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ased on appearance rather than theory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Implementation on DX9 Hardwar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re are currently many limitation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hoose implementations accordingly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 2.0 or later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 1.x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uffer formats for HDR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precision integer/float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precision integer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Issues with High-Precision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emory us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t least twice as much memory as the conventional full-color buffer is need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pha blending cannot be us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exture filtering cannot be used with floating-point format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ome systems don’t support them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situation is not good…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Use Low-Precision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ke use of low-precision buff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8R8G8B8 / A2R10G10B10 etc.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 memory consump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pha blending can be used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 action="ppaction://hlinksldjump"/>
              </a:rPr>
              <a:t>What can be done with HDR?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ynamic Rang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 action="ppaction://hlinksldjump"/>
              </a:rPr>
              <a:t>Implementation on DX8 hardwar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3" action="ppaction://hlinksldjump"/>
              </a:rPr>
              <a:t>Implementation on DX9 hardwar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ultiple Gaussian Filt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4" action="ppaction://hlinksldjump"/>
              </a:rPr>
              <a:t>HDR in game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Compression with Tone Mapping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nder directly to displayable format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nlinear color compress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ffectively wide dynamic rang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erence: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inhard, Erik, Mike Stark, Peter Shirley, and Jim Ferwerda, </a:t>
            </a:r>
            <a:r>
              <a:rPr b="0" lang="ja-JP" sz="18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/>
              </a:rPr>
              <a:t>“Photographic Tone Reproduction for Digital Images”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alpha channel is not used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an be used for any other purpos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76520" y="3048120"/>
                <a:ext cx="36399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nvironment Map Format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latively low resolu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pha channel/blending is not very important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 16-bit integer format if enough memory storage is availabl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reat it as having an interval of [0, 256] or [0, 512]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exture filtering can be us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 the futur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o it all with A16B16G16R16F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Low-Precision Environment Map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m when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precision buffers are not supported, o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emory storage is limit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f the fill-rate of your system is relatively low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 same format as used in DX8 fake HD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f the fill-rate is high enough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nlinear color compress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imilar to tone mapping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tore exponents into the alpha channel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ore accurate operations are possibl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ing it just as a scale factor is not enough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ven the DX8 fake HDR has a much bigger impact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Color Compress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imilar to tone mapp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ncode when rendering to an environment map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luminance curve controlling factor (~2-4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bigger offset means: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luminance regions have higher resolutions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luminance regions have Lower resolutions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code when rendering to a frame buffer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om the environment map fetch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: a small value to avoid divide-by-zero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2438280"/>
                <a:ext cx="42037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ffse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5334120"/>
                <a:ext cx="41817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ose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Offse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Color Compress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carefully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ch banding may become noticeable on reflections of large area light source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.g. Light sky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8R8G8B8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tore a common exponent for RGB into the alpha channel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a base of 1.04 to 1.08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                                                        </a:t>
            </a:r>
            <a:r>
              <a:rPr b="0" i="1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offset</a:t>
            </a: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~64-128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ase=1.04 means dynamic range of ~23,000 (1.04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256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bigger base value means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er dynamic rang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er resolution (Mach banding becomes noticeable)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219320" y="3276720"/>
                <a:ext cx="51051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os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rgb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α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offse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8R8G8B8 Encoding (HLSL)</a:t>
            </a:r>
            <a:endParaRPr b="0" lang="en-US" sz="44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a^n = b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LOG(a, b)   (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og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(b)) /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og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(a)) 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BASE    (1.06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OFFSET  (128.0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Pixel Shader (6 instruction slots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gb already exposure-scaled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ncodeHDR_RGB_RGBE8(in float3 rgb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ompute a common exponent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Len = dot(rgb.rgb, 1.0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Exp = LOG(EXP_BASE, fLen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a = (fExp + EXP_OFFSET) / 256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rgb = rgb / fLen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2286000"/>
            <a:ext cx="49532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More accurate enco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BASE    (1.0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OFFSET  (6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Pixel Shader (13 instruction slo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ncodeHDR_RGB_RGBE8(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i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g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ompute a common ex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based on the brightest color cha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Len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ax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rgb.r, rgb.g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Len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ax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fLen, rgb.b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Exp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or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 LOG(EXP_BASE, fLen) 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a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clamp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 (fExp + EXP_OFFSET) / 256, 0.0, 1.0 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rgb = rgb /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pow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EXP_BASE, ret.a * 256 - EXP_OFFSET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8R8G8B8 Decoding</a:t>
            </a:r>
            <a:endParaRPr b="0" lang="en-US" sz="44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Pixel Shader (5 instruction slots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DecodeHDR_RGBE8_RGB(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i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gbe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Exp = rgbe.a * 256 - EXP_OFFSET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Scale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pow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EXP_BASE, fExp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 (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gbe.rgb * fScaler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41911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ncoding/decoding should be done using partial-precision instruct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ounding errors inherent in the texture format are much bigg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2286000"/>
            <a:ext cx="4419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If R16F texture format is availabl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you can use texture to convert alpha to scale fa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DecodeHDR_RGBE8_RGB(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i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gb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amp1D_Exp: 1D float texture of 256x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pow(EXP_BASE, uCoord * 256 - EXP_OFFS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Scale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1D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1D_Exp, rgbe.a).r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 (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gbe.rgb * fScale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Rendering with Tone Mapping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lossy reflection materia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209680"/>
            <a:ext cx="5486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PS_GlossReflect(PS_INPUT_GlossReflect vIn) : COLOR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DecalMap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2D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2D_Decal, vIn.tcDecal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LightMap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2D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2D_LightMap, vIn.tcLightMap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Diffuse = vIn.cPrimaryDiffuse * vLightMap + vIn.cOtherDiffuse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Diffuse *= vDecalMap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HDR-decoding of environment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Specular = DecodeHDR_RGBE8_RGB(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                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CUBE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CUBE_EnvMap, vIn.tcReflect) 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RoughSpecular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CUBE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CUBE_DullEnvMap, vIn.tcReflect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Reflectance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2D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 samp2D_Fresnel, vIn.tcFresnel ).a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Reflectance *= vDecalMap.a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Specular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erp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vSpecular, vRoughSpecular, fShininess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Lum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erp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vDiffuse, vSpecular, fReflectance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HDR tone-mapping enco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Out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Out.rgb = vLum / (vLum + 1.0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Out.a = 0.0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Out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743200"/>
            <a:ext cx="3200400" cy="23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struct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PS_INPUT_GlossRefl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2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Decal         : TEXCOORD0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Reflect       : TEXCOORD1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2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LightMap      : TEXCOORD2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2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Fresnel       : TEXCOORD3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Exposure-scaled lighting resul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Use TEXCOORD to avoid clamp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cPrimaryDiffuse : TEXCOORD6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cOtherDiffuse   : TEXCOORD7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Generating Displayable Imag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xtract high-luminance reg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reshold</a:t>
            </a: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~0.5-0.8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ivide by (1 - </a:t>
            </a:r>
            <a:r>
              <a:rPr b="0" i="1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reshold</a:t>
            </a: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) to normaliz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glar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an integer buffer to apply texture filtering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opefully, a float buffer with filtering…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a displayable im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dd the glare to the frame buff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371600" y="2708280"/>
                <a:ext cx="4944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la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uff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g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reshold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reshold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What can be done with HDR?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 action="ppaction://hlinksldjump"/>
              </a:rPr>
              <a:t>Dazzling light 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 action="ppaction://hlinksldjump"/>
              </a:rPr>
              <a:t>Dazzling reflec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esnel reflec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right reflection in the normal direc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xposure control effec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alistic depth-of-field effec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alistic motion blur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Notes on DX9 Implementa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precision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nsumes a lot of memor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 blending capabilit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precision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s are expensiv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nsider fake techniques like DX8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 performan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 memory consump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Very effectiv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loom genera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single Gaussian filter does not give very good resul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mall effective radiu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t sharp enough around the light posi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mposite multiple Gaussian filt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Gaussian filters of different radii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arger but sharper glare becomes possibl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Gauss0_trim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504960" cy="22939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43200" y="4952880"/>
                <a:ext cx="24382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stance from the orig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6" name="Gauss1_trim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504960" cy="229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354640" y="4419720"/>
                <a:ext cx="24732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152800" y="4343400"/>
                <a:ext cx="799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962520" y="3124080"/>
            <a:ext cx="114300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4240" y="44388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</a:rPr>
              <a:t>Original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438800" y="4343400"/>
                <a:ext cx="799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345360" y="4343400"/>
                <a:ext cx="2473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3" name="GaussTest_OrgImage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194" name="GaussComposite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195" name="GaussTest_Org" descr=""/>
          <p:cNvPicPr/>
          <p:nvPr/>
        </p:nvPicPr>
        <p:blipFill>
          <a:blip r:embed="rId3"/>
          <a:stretch/>
        </p:blipFill>
        <p:spPr>
          <a:xfrm>
            <a:off x="3581280" y="23623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filter of large radius is very expensiv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ke use of downscaled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large radius means a strong low-pass filt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pply a blur filter to a low-res version of the image and magnify it by bilinear filterin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The error is unnoticeabl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hange the image resolution rather than the filter radiu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4 x 1/4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16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8 x 1/8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64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16 x 1/16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256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32 x 1/32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1024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ven a large filter of several hundred pixels square can be applied very quickly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Applying Gaussian Filters to Downscaled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200" name="Bloom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201" name="Bloom8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202" name="Bloom16" descr=""/>
          <p:cNvPicPr/>
          <p:nvPr/>
        </p:nvPicPr>
        <p:blipFill>
          <a:blip r:embed="rId3"/>
          <a:stretch/>
        </p:blipFill>
        <p:spPr>
          <a:xfrm>
            <a:off x="5791320" y="22860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Bloom32" descr=""/>
          <p:cNvPicPr/>
          <p:nvPr/>
        </p:nvPicPr>
        <p:blipFill>
          <a:blip r:embed="rId4"/>
          <a:stretch/>
        </p:blipFill>
        <p:spPr>
          <a:xfrm>
            <a:off x="1066680" y="43434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204" name="Bloom64" descr=""/>
          <p:cNvPicPr/>
          <p:nvPr/>
        </p:nvPicPr>
        <p:blipFill>
          <a:blip r:embed="rId5"/>
          <a:stretch/>
        </p:blipFill>
        <p:spPr>
          <a:xfrm>
            <a:off x="3429000" y="434340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71200" y="59436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32 x 1/32 (32x48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33160" y="59436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64 x 1/64 (16x12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1200" y="38862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4 x 1/4 (256x192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360" y="3886200"/>
            <a:ext cx="24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8 x 1/8 (128x96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95480" y="38862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16 x 1/16 (64x48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Bilinear Filtering and Composi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gnify them using bilinear filtering and composite the resul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error is almost unrecognizabl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  <p:pic>
        <p:nvPicPr>
          <p:cNvPr id="212" name="Bloom4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3" name="BloomComposite" descr=""/>
          <p:cNvPicPr/>
          <p:nvPr/>
        </p:nvPicPr>
        <p:blipFill>
          <a:blip r:embed="rId2"/>
          <a:stretch/>
        </p:blipFill>
        <p:spPr>
          <a:xfrm>
            <a:off x="5867280" y="5029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Bloom8_BL" descr=""/>
          <p:cNvPicPr/>
          <p:nvPr/>
        </p:nvPicPr>
        <p:blipFill>
          <a:blip r:embed="rId3"/>
          <a:stretch/>
        </p:blipFill>
        <p:spPr>
          <a:xfrm>
            <a:off x="3276720" y="3429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Bloom16_BL" descr=""/>
          <p:cNvPicPr/>
          <p:nvPr/>
        </p:nvPicPr>
        <p:blipFill>
          <a:blip r:embed="rId4"/>
          <a:stretch/>
        </p:blipFill>
        <p:spPr>
          <a:xfrm>
            <a:off x="5410080" y="3429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6" name="Bloom32_BL" descr=""/>
          <p:cNvPicPr/>
          <p:nvPr/>
        </p:nvPicPr>
        <p:blipFill>
          <a:blip r:embed="rId5"/>
          <a:stretch/>
        </p:blipFill>
        <p:spPr>
          <a:xfrm>
            <a:off x="1143000" y="5029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7" name="Bloom64_BL" descr=""/>
          <p:cNvPicPr/>
          <p:nvPr/>
        </p:nvPicPr>
        <p:blipFill>
          <a:blip r:embed="rId6"/>
          <a:stretch/>
        </p:blipFill>
        <p:spPr>
          <a:xfrm>
            <a:off x="3276720" y="502920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972160" y="396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880" y="396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2160" y="5562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480" y="5562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Good Enough!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223" name="BloomComposite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Notes on Filter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high-precision formats for low-res buff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on’t take too many sample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Very expensive, especially for high-res image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in Gam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hould be appealing rather than accurat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cy is not important for player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ven an inaccurate scene can be appealing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st and performan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key is to understand the effects of HD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vise a fake technique that is fast enough and produces believable result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te HDR rendering is still hard in game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HDR only for effects that give a large impact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sprites if you want to generate glare only for the sun, which is much faster and gives high quality result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Dazzling Light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93" name="ImageBaseGlare07" descr=""/>
          <p:cNvPicPr/>
          <p:nvPr/>
        </p:nvPicPr>
        <p:blipFill>
          <a:blip r:embed="rId1"/>
          <a:stretch/>
        </p:blipFill>
        <p:spPr>
          <a:xfrm>
            <a:off x="4191120" y="3733920"/>
            <a:ext cx="4572000" cy="282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ImageBaseGlare09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4572000" cy="281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in Gam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teger formats have very limited dynamic range 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nder in relative luminance spa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pply exposure scaling during render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 precision is not needed for the dark regions after exposure scal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s those regions remain dark in the final imag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arefully choose the range to maximize effective precis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in Gam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uture perspectiv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l operations can be done in float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ffective use of HDR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pth-of-field with the shape of aperture stop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otion blur with high luminances not clamp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inhard, Erik, Mike Stark, Peter Shirley, and Jim Ferwerda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/>
              </a:rPr>
              <a:t>“Photographic Tone Reproduction for Digital Images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itchell, Jason L.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/>
              </a:rPr>
              <a:t>“Real-Time 3D Scene Post-Processing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irectX 9.0 SDK Summer 2003 Update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3"/>
              </a:rPr>
              <a:t>“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4"/>
              </a:rPr>
              <a:t>HDRLighting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5"/>
              </a:rPr>
              <a:t> Sample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bevec, Paul E.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6"/>
              </a:rPr>
              <a:t>“Paul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7"/>
              </a:rPr>
              <a:t> Debevec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8"/>
              </a:rPr>
              <a:t> Home Page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Kawase, Masaki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9"/>
              </a:rPr>
              <a:t>“Frame Buffer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0"/>
              </a:rPr>
              <a:t> Postprocessing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1"/>
              </a:rPr>
              <a:t> Effects in DOUBLE-S.T.E.A.L (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2"/>
              </a:rPr>
              <a:t>Wreckless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3"/>
              </a:rPr>
              <a:t>)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Dazzling Reflec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96" name="ImageBaseGlare05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114800" cy="260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4114800" y="3952800"/>
          <a:ext cx="4495680" cy="25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952800"/>
                    <a:ext cx="449568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ImageBaseGlare06" descr=""/>
          <p:cNvPicPr/>
          <p:nvPr/>
        </p:nvPicPr>
        <p:blipFill>
          <a:blip r:embed="rId4"/>
          <a:stretch/>
        </p:blipFill>
        <p:spPr>
          <a:xfrm>
            <a:off x="685800" y="4229280"/>
            <a:ext cx="3581280" cy="2238120"/>
          </a:xfrm>
          <a:prstGeom prst="rect">
            <a:avLst/>
          </a:prstGeom>
          <a:ln w="0">
            <a:noFill/>
          </a:ln>
        </p:spPr>
      </p:pic>
      <p:pic>
        <p:nvPicPr>
          <p:cNvPr id="100" name="ImageBaseGlare04" descr=""/>
          <p:cNvPicPr/>
          <p:nvPr/>
        </p:nvPicPr>
        <p:blipFill>
          <a:blip r:embed="rId5"/>
          <a:stretch/>
        </p:blipFill>
        <p:spPr>
          <a:xfrm>
            <a:off x="4419720" y="1752480"/>
            <a:ext cx="4190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Fresnel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87692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Bright 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off low-reflectance su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Fresnel00" descr=""/>
          <p:cNvPicPr/>
          <p:nvPr/>
        </p:nvPicPr>
        <p:blipFill>
          <a:blip r:embed="rId1"/>
          <a:stretch/>
        </p:blipFill>
        <p:spPr>
          <a:xfrm>
            <a:off x="4191120" y="4038480"/>
            <a:ext cx="4572000" cy="2536920"/>
          </a:xfrm>
          <a:prstGeom prst="rect">
            <a:avLst/>
          </a:prstGeom>
          <a:ln w="0">
            <a:noFill/>
          </a:ln>
        </p:spPr>
      </p:pic>
      <p:pic>
        <p:nvPicPr>
          <p:cNvPr id="104" name="Fresnel01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719440"/>
          </a:xfrm>
          <a:prstGeom prst="rect">
            <a:avLst/>
          </a:prstGeom>
          <a:ln w="0">
            <a:noFill/>
          </a:ln>
        </p:spPr>
      </p:pic>
      <p:pic>
        <p:nvPicPr>
          <p:cNvPr id="105" name="Fresnel02" descr=""/>
          <p:cNvPicPr/>
          <p:nvPr/>
        </p:nvPicPr>
        <p:blipFill>
          <a:blip r:embed="rId3"/>
          <a:stretch/>
        </p:blipFill>
        <p:spPr>
          <a:xfrm>
            <a:off x="4343400" y="1219320"/>
            <a:ext cx="441972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xposure Control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107" name="Exposure00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59236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Exposure01" descr=""/>
          <p:cNvPicPr/>
          <p:nvPr/>
        </p:nvPicPr>
        <p:blipFill>
          <a:blip r:embed="rId2"/>
          <a:stretch/>
        </p:blipFill>
        <p:spPr>
          <a:xfrm>
            <a:off x="3276720" y="1600200"/>
            <a:ext cx="2592360" cy="157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Exposure02" descr=""/>
          <p:cNvPicPr/>
          <p:nvPr/>
        </p:nvPicPr>
        <p:blipFill>
          <a:blip r:embed="rId3"/>
          <a:stretch/>
        </p:blipFill>
        <p:spPr>
          <a:xfrm>
            <a:off x="5943600" y="1600200"/>
            <a:ext cx="2592360" cy="15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Exposure03" descr=""/>
          <p:cNvPicPr/>
          <p:nvPr/>
        </p:nvPicPr>
        <p:blipFill>
          <a:blip r:embed="rId4"/>
          <a:stretch/>
        </p:blipFill>
        <p:spPr>
          <a:xfrm>
            <a:off x="609480" y="3276720"/>
            <a:ext cx="2592360" cy="159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Exposure04" descr=""/>
          <p:cNvPicPr/>
          <p:nvPr/>
        </p:nvPicPr>
        <p:blipFill>
          <a:blip r:embed="rId5"/>
          <a:stretch/>
        </p:blipFill>
        <p:spPr>
          <a:xfrm>
            <a:off x="3276720" y="3276720"/>
            <a:ext cx="2590560" cy="15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Exposure05" descr=""/>
          <p:cNvPicPr/>
          <p:nvPr/>
        </p:nvPicPr>
        <p:blipFill>
          <a:blip r:embed="rId6"/>
          <a:stretch/>
        </p:blipFill>
        <p:spPr>
          <a:xfrm>
            <a:off x="5943600" y="3276720"/>
            <a:ext cx="2592360" cy="15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Exposure06" descr=""/>
          <p:cNvPicPr/>
          <p:nvPr/>
        </p:nvPicPr>
        <p:blipFill>
          <a:blip r:embed="rId7"/>
          <a:stretch/>
        </p:blipFill>
        <p:spPr>
          <a:xfrm>
            <a:off x="609480" y="4952880"/>
            <a:ext cx="2590920" cy="155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Exposure07" descr=""/>
          <p:cNvPicPr/>
          <p:nvPr/>
        </p:nvPicPr>
        <p:blipFill>
          <a:blip r:embed="rId8"/>
          <a:stretch/>
        </p:blipFill>
        <p:spPr>
          <a:xfrm>
            <a:off x="3276720" y="4952880"/>
            <a:ext cx="2593800" cy="14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Exposure08" descr=""/>
          <p:cNvPicPr/>
          <p:nvPr/>
        </p:nvPicPr>
        <p:blipFill>
          <a:blip r:embed="rId9"/>
          <a:stretch/>
        </p:blipFill>
        <p:spPr>
          <a:xfrm>
            <a:off x="5943600" y="4952880"/>
            <a:ext cx="2590920" cy="15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DoF01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17" name="DoF00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18" name="DoF02" descr=""/>
          <p:cNvPicPr/>
          <p:nvPr/>
        </p:nvPicPr>
        <p:blipFill>
          <a:blip r:embed="rId3"/>
          <a:stretch/>
        </p:blipFill>
        <p:spPr>
          <a:xfrm>
            <a:off x="762120" y="18288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Depth-of-Field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64008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lissBold"/>
              </a:rPr>
              <a:t>Future persp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Motion Blur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122" name="MotionBlur01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123" name="MotionBlur00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20120" y="64008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lissBold"/>
              </a:rPr>
              <a:t>Future persp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7T04:27:01Z</dcterms:created>
  <dc:creator>Masaki Kawase</dc:creator>
  <dc:description/>
  <dc:language>en-US</dc:language>
  <cp:lastModifiedBy>Masaki Kawase</cp:lastModifiedBy>
  <dcterms:modified xsi:type="dcterms:W3CDTF">2004-03-17T19:38:59Z</dcterms:modified>
  <cp:revision>3319</cp:revision>
  <dc:subject/>
  <dc:title>Practical Implementation of High Dynamic Range Rendering</dc:title>
</cp:coreProperties>
</file>