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9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661-1ABC-4F6E-86DA-C601671E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A60-4EE7-4A1B-A7F3-D6776BDC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A0E-E2F4-48B0-83AE-9FE064F6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EC0-B929-46EC-A679-258A496D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0254-EA5A-4732-A0A0-8F4BA1D4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C396-3374-4679-8999-916C38AF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4451-3C53-4383-B522-AB553F0A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A85A-C767-4F02-9499-D67A13F6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D377-92AC-47F2-9666-BF7C410F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8550-578D-4C7F-B939-DCC558D3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232F-8EA5-43A8-B9B0-6F58192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E6C-657B-490E-A113-86459E5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5A0F-FB66-45DE-A527-42AA36A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4FF5-FCF4-4514-A28C-5D8463A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63A-E07E-47EE-AF5A-E23D2B1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4A35-9640-4E56-991E-5B6D1F48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C091-A2D8-47CB-99E2-8B70AE37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E60-136E-42B4-9CB4-E7A04474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74D-2C8D-4EB3-8407-862ECA5D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24A-03E9-448D-8E41-DF887AF4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7C5-8C7F-42FB-A27C-FC969C76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AB1-8CC7-424B-9710-3A9BC1B4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17D-BA06-426F-BA23-9837267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2A6-50E6-46B7-BABE-CA0C79B1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E85-87FE-4B2A-9225-16345CF156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88EC-5106-4496-BDE8-C4AF1DE0BC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lissRegular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nkasha-games.com/" TargetMode="External"/><Relationship Id="rId2" Type="http://schemas.openxmlformats.org/officeDocument/2006/relationships/hyperlink" Target="http://www.daionet.gr.jp/~masa/" TargetMode="External"/><Relationship Id="rId3" Type="http://schemas.openxmlformats.org/officeDocument/2006/relationships/hyperlink" Target="http://www.daionet.gr.jp/~masa/" TargetMode="External"/><Relationship Id="rId4" Type="http://schemas.openxmlformats.org/officeDocument/2006/relationships/hyperlink" Target="http://www.daionet.gr.jp/~masa/" TargetMode="External"/><Relationship Id="rId5" Type="http://schemas.openxmlformats.org/officeDocument/2006/relationships/hyperlink" Target="http://www.daionet.gr.jp/~masa/" TargetMode="External"/><Relationship Id="rId6" Type="http://schemas.openxmlformats.org/officeDocument/2006/relationships/hyperlink" Target="http://www.daionet.gr.jp/~masa/" TargetMode="External"/><Relationship Id="rId7" Type="http://schemas.openxmlformats.org/officeDocument/2006/relationships/hyperlink" Target="http://www.daionet.gr.jp/~masa/" TargetMode="External"/><Relationship Id="rId8" Type="http://schemas.openxmlformats.org/officeDocument/2006/relationships/hyperlink" Target="http://www.daionet.gr.jp/~masa/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hyperlink" Target="http://www.ati.com/developer/techpapers.html" TargetMode="External"/><Relationship Id="rId3" Type="http://schemas.openxmlformats.org/officeDocument/2006/relationships/hyperlink" Target="http://msdn.microsoft.com/library/default.asp?url=/library/en-us/directx9_c/directx/graphics/TutorialsAndSamples/HDRLighting.asp" TargetMode="External"/><Relationship Id="rId4" Type="http://schemas.openxmlformats.org/officeDocument/2006/relationships/hyperlink" Target="http://msdn.microsoft.com/library/default.asp?url=/library/en-us/directx9_c/directx/graphics/TutorialsAndSamples/HDRLighting.asp" TargetMode="External"/><Relationship Id="rId5" Type="http://schemas.openxmlformats.org/officeDocument/2006/relationships/hyperlink" Target="http://msdn.microsoft.com/library/default.asp?url=/library/en-us/directx9_c/directx/graphics/TutorialsAndSamples/HDRLighting.asp" TargetMode="External"/><Relationship Id="rId6" Type="http://schemas.openxmlformats.org/officeDocument/2006/relationships/hyperlink" Target="http://www.debevec.org/" TargetMode="External"/><Relationship Id="rId7" Type="http://schemas.openxmlformats.org/officeDocument/2006/relationships/hyperlink" Target="http://www.debevec.org/" TargetMode="External"/><Relationship Id="rId8" Type="http://schemas.openxmlformats.org/officeDocument/2006/relationships/hyperlink" Target="http://www.debevec.org/" TargetMode="External"/><Relationship Id="rId9" Type="http://schemas.openxmlformats.org/officeDocument/2006/relationships/hyperlink" Target="http://www.daionet.gr.jp/~masa/column/2003-03-21.html" TargetMode="External"/><Relationship Id="rId10" Type="http://schemas.openxmlformats.org/officeDocument/2006/relationships/hyperlink" Target="http://www.daionet.gr.jp/~masa/column/2003-03-21.html" TargetMode="External"/><Relationship Id="rId11" Type="http://schemas.openxmlformats.org/officeDocument/2006/relationships/hyperlink" Target="http://www.daionet.gr.jp/~masa/column/2003-03-21.html" TargetMode="External"/><Relationship Id="rId12" Type="http://schemas.openxmlformats.org/officeDocument/2006/relationships/hyperlink" Target="http://www.daionet.gr.jp/~masa/column/2003-03-21.html" TargetMode="External"/><Relationship Id="rId13" Type="http://schemas.openxmlformats.org/officeDocument/2006/relationships/hyperlink" Target="http://www.daionet.gr.jp/~masa/column/2003-03-21.html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actical Implementation of High Dynamic Range Render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Masaki Kawas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PUBLISHING CO.,LTD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http://www.bunkasha-games.com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http://www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daionet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.gr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jp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/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~masa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ynamic Ran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ratio of the greatest value to the smallest value that can be represent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dynamic range (LDR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absolut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the scene in absolute luminance spa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32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presents all luminances direct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relativ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rk regions are not importan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ame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or glare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hen rendering with relative luminances: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deally, more than 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gam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2~13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4,000~10,000) is acceptabl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important for representing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zzling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pecular reflectance of nonmetal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lectance in the normal direction is typ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ess than 4%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light remains bright after such low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o maintain dazzles after reflection of ~1-4%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 of more than 10,000 or 20,000 is necessa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8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e have no choic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operation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DR buffer format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alpha channel as luminance informa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ake it to achieve believable appear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Fake HDR Pixel Shad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1752480"/>
            <a:ext cx="5105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s_1_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d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v0, t2,  v1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primary diffuse color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hadow/light map, and add the result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ther per-vertex ligh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.a,  v1.a, t0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y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, r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diffuse color with decal 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t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0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.rgb,  t1, c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envmap with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flect the envmap by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1.a, c0.a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r1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nterpolate the envmap color and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sult of LDR computation, based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he envmap brightness parameter (r1.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r1.a,  t1.a, r0.a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luminance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438280"/>
            <a:ext cx="32004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0.rgb : Diffuse color of primary l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rgb : Color for other lights/amb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         pre-scaled by (exposure * 0.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a   : Specular reflectance (Fresn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rgb : Decal texture (for diffu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a   : Gloss map (for specul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rgb : Envmap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a   :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2.rgb : Shadow/ligh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rgb :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a   :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4-0.5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i="1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“Frame Buffer Postprocessing Effects in DOUBLE-S.T.E.A.L (Wreckless)”</a:t>
            </a:r>
            <a:endParaRPr b="0" lang="en-US" sz="16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lculate the luminance from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result of glare generation to the lumin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76520" y="5486400"/>
                <a:ext cx="5717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2209680"/>
                <a:ext cx="4953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8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w to make it believable by fak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d on appearance rather than theor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9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re are currently many limitation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oose implementations according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2.0 or lat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uffer formats for HD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integer/float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integer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ssues with High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us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t least twice as much memory as the conventional full-color buffer is need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not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not be used with floating-point forma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ome systems don’t support them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situation is not good…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Use Low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low-precision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8R8G8B8 / A2R10G10B10 etc.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 be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What can be done with HDR?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Implementation on DX8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 action="ppaction://hlinksldjump"/>
              </a:rPr>
              <a:t>Implementation on DX9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 action="ppaction://hlinksldjump"/>
              </a:rPr>
              <a:t>HDR in gam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mpression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directly to displayable form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ly wide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18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alpha channel is not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n be used for any other purpos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76520" y="3048120"/>
                <a:ext cx="3639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nvironment Map Format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latively low resolu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channel/blending is not very importan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16-bit integer format if enough memory storage is avail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reat it as having an interval of [0, 256] or [0, 512]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the futu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 it all with A16B16G16R16F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Low-Precision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m when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 are not supported, o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storage is limit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of your system is relatively low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same format as used in DX8 fake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is high enough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exponents into the alpha chann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re accurate operations are pos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ing it just as a scale factor is not enough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the DX8 fake HDR has a much bigger impact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e when rendering to an environment map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luminance curve controlling factor (~2-4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offset means: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luminance regions have high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luminance regions have Low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code when rendering to a frame buff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om the environment map fetch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: a small value to avoid divide-by-zero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438280"/>
                <a:ext cx="4203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5334120"/>
                <a:ext cx="41817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careful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ch banding may become noticeable on reflections of large area light source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.g. Light sk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a common exponent for RGB into the alpha chann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 base of 1.04 to 1.0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                                                 </a:t>
            </a: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64-12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=1.04 means dynamic range of ~23,000 (1.04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25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base value means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er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er resolution (Mach banding becomes noticeable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3276720"/>
                <a:ext cx="51051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Encoding (HLSL)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a^n = b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LOG(a, b)   (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b))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a)) 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6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128.0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6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gb already exposure-scaled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in float3 rgb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dot(rgb.rgb, 1.0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LOG(EXP_BASE, fLen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(fExp + EXP_OFFSET) / 256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fLen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286000"/>
            <a:ext cx="4953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re accurate en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6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13 instruction sl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ased on the brightest color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gb.r, rgb.g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fLen, rgb.b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or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LOG(EXP_BASE, fLen)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clamp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(fExp + EXP_OFFSET) / 256, 0.0, 1.0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ret.a * 256 - EXP_OFFSET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Decoding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5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rgbe.a * 256 - EXP_OFFS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fExp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r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ing/decoding should be done using partial-precision instruc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ounding errors inherent in the texture format are much bigg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286000"/>
            <a:ext cx="4419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f R16F texture format is availabl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you can use texture to convert alpha to scale f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amp1D_Exp: 1D float texture of 256x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pow(EXP_BASE, uCoord * 256 - EXP_OFFS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1D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1D_Exp, rgbe.a).r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ndering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209680"/>
            <a:ext cx="5486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GlossReflect(PS_INPUT_GlossReflect vIn) : COLOR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ecal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Decal, vIn.tcDecal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ight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LightMap, vIn.tcLightMap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iffuse = vIn.cPrimaryDiffuse * vLightMap + vIn.cOtherDiffuse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Diffuse *= vDecalMap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-decoding of environmen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Specular = DecodeHDR_RGBE8_RGB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                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EnvMap, vIn.tcReflect) 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Rough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DullEnvMap, vIn.tcReflect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Reflectance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samp2D_Fresnel, vIn.tcFresnel )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Reflectance *= vDecalMap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Specular, vRoughSpecular, fShininess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um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Diffuse, vSpecular, fReflectance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 tone-mapping enco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rgb = vLum / (vLum + 1.0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a = 0.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743200"/>
            <a:ext cx="320040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struc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INPUT_GlossRefl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Decal         : TEXCOORD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Reflect       : TEXCOORD1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LightMap      : TEXCOORD2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Fresnel       : TEXCOORD3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xposure-scaled lighting resu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Use TEXCOORD to avoid clamp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PrimaryDiffuse : TEXCOORD6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OtherDiffuse   : TEXCOORD7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5-0.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vide by (1 - </a:t>
            </a: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 to normaliz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n integer buffer to apply texture filt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pefully, a float buffer with filtering…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glare to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71600" y="2708280"/>
                <a:ext cx="4944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uff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g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What can be done with HDR?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Dazzling light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Dazzling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esnel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reflection in the normal direc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posure control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depth-of-field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motion blu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9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umes a lot of memo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 blending capabilit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s are expens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ider fake techniques like DX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erform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ffect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loom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single Gaussian filter does not give very good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mall effective radiu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t sharp enough around the light posi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mposite 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Gaussian filters of different radii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arger but sharper glare becomes possi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auss0_trim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504960" cy="2293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4952880"/>
                <a:ext cx="243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from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6" name="Gauss1_trim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04960" cy="22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54640" y="4419720"/>
                <a:ext cx="2473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52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962520" y="3124080"/>
            <a:ext cx="11430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4240" y="44388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Origin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38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345360" y="4343400"/>
                <a:ext cx="24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3" name="GaussTest_OrgImage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94" name="GaussComposit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195" name="GaussTest_Org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filter of large radius is very expensiv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downscaled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large radius means a strong low-pass filt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a blur filter to a low-res version of the image and magnify it by bilinear filter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The error is unnoticea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ange the image resolution rather than the filter radiu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4 x 1/4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8 x 1/8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6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16 x 1/16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25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32 x 1/32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02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 large filter of several hundred pixels square can be applied very quickl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pplying Gaussian Filters to Downscaled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00" name="Bloom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1" name="Bloom8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2" name="Bloom16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Bloom32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4" name="Bloom64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7120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32 x 1/32 (32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316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64 x 1/64 (16x1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120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4 x 1/4 (256x19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360" y="38862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8 x 1/8 (128x96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9548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16 x 1/16 (64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Bilinear Filtering and Composi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gnify them using bilinear filtering and composite the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error is almost unrecogniz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  <p:pic>
        <p:nvPicPr>
          <p:cNvPr id="212" name="Bloom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3" name="BloomComposite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Bloom8_BL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Bloom16_BL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Bloom32_BL" descr=""/>
          <p:cNvPicPr/>
          <p:nvPr/>
        </p:nvPicPr>
        <p:blipFill>
          <a:blip r:embed="rId5"/>
          <a:stretch/>
        </p:blipFill>
        <p:spPr>
          <a:xfrm>
            <a:off x="1143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Bloom64_BL" descr=""/>
          <p:cNvPicPr/>
          <p:nvPr/>
        </p:nvPicPr>
        <p:blipFill>
          <a:blip r:embed="rId6"/>
          <a:stretch/>
        </p:blipFill>
        <p:spPr>
          <a:xfrm>
            <a:off x="3276720" y="50292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7216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88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216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48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ood Enough!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23" name="BloomComposit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Filt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igh-precision formats for low-res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n’t take too many sampl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xpensive, especially for high-res imag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hould be appealing rather than accurat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cy is not important for player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n inaccurate scene can be appeal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st and perform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key is to understand the effects of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vise a fake technique that is fast enough and produces believable resul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HDR rendering is still hard in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DR only for effects that give a large impac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sprites if you want to generate glare only for the sun, which is much faster and gives high quality result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Ligh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3" name="ImageBaseGlare07" descr=""/>
          <p:cNvPicPr/>
          <p:nvPr/>
        </p:nvPicPr>
        <p:blipFill>
          <a:blip r:embed="rId1"/>
          <a:stretch/>
        </p:blipFill>
        <p:spPr>
          <a:xfrm>
            <a:off x="4191120" y="3733920"/>
            <a:ext cx="4572000" cy="28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ImageBaseGlare09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57200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formats have very limited dynamic range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in relative luminance spa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recision is not needed for the dark regions after exposure scal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s those regions remain dark in the final ima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refully choose the range to maximize effective preci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uture perspectiv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l operations can be done in flo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 use of HD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pth-of-field with the shape of aperture stop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tion blur with high luminances not clamp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itchell, Jason L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“Real-Time 3D Scene Post-Processing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rectX 9.0 SDK Summer 2003 Update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“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HDRLight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 Sampl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bevec, Paul E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“Paul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 Debevec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 Home Pag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9"/>
              </a:rPr>
              <a:t>“Frame Buffer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0"/>
              </a:rPr>
              <a:t> Postprocess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1"/>
              </a:rPr>
              <a:t> Effects in DOUBLE-S.T.E.A.L (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2"/>
              </a:rPr>
              <a:t>Wreckless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3"/>
              </a:rPr>
              <a:t>)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Reflec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6" name="ImageBaseGlare0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114800" cy="260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114800" y="3952800"/>
          <a:ext cx="4495680" cy="25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952800"/>
                    <a:ext cx="44956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ImageBaseGlare06" descr=""/>
          <p:cNvPicPr/>
          <p:nvPr/>
        </p:nvPicPr>
        <p:blipFill>
          <a:blip r:embed="rId4"/>
          <a:stretch/>
        </p:blipFill>
        <p:spPr>
          <a:xfrm>
            <a:off x="685800" y="4229280"/>
            <a:ext cx="3581280" cy="2238120"/>
          </a:xfrm>
          <a:prstGeom prst="rect">
            <a:avLst/>
          </a:prstGeom>
          <a:ln w="0">
            <a:noFill/>
          </a:ln>
        </p:spPr>
      </p:pic>
      <p:pic>
        <p:nvPicPr>
          <p:cNvPr id="100" name="ImageBaseGlare04" descr=""/>
          <p:cNvPicPr/>
          <p:nvPr/>
        </p:nvPicPr>
        <p:blipFill>
          <a:blip r:embed="rId5"/>
          <a:stretch/>
        </p:blipFill>
        <p:spPr>
          <a:xfrm>
            <a:off x="4419720" y="1752480"/>
            <a:ext cx="4190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esne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6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Bright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off low-reflectance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resnel00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2536920"/>
          </a:xfrm>
          <a:prstGeom prst="rect">
            <a:avLst/>
          </a:prstGeom>
          <a:ln w="0">
            <a:noFill/>
          </a:ln>
        </p:spPr>
      </p:pic>
      <p:pic>
        <p:nvPicPr>
          <p:cNvPr id="104" name="Fresnel01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719440"/>
          </a:xfrm>
          <a:prstGeom prst="rect">
            <a:avLst/>
          </a:prstGeom>
          <a:ln w="0">
            <a:noFill/>
          </a:ln>
        </p:spPr>
      </p:pic>
      <p:pic>
        <p:nvPicPr>
          <p:cNvPr id="105" name="Fresnel02" descr=""/>
          <p:cNvPicPr/>
          <p:nvPr/>
        </p:nvPicPr>
        <p:blipFill>
          <a:blip r:embed="rId3"/>
          <a:stretch/>
        </p:blipFill>
        <p:spPr>
          <a:xfrm>
            <a:off x="4343400" y="1219320"/>
            <a:ext cx="4419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xposure Contro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07" name="Exposure0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5923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Exposure01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259236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Exposure02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59236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Exposure03" descr=""/>
          <p:cNvPicPr/>
          <p:nvPr/>
        </p:nvPicPr>
        <p:blipFill>
          <a:blip r:embed="rId4"/>
          <a:stretch/>
        </p:blipFill>
        <p:spPr>
          <a:xfrm>
            <a:off x="609480" y="3276720"/>
            <a:ext cx="2592360" cy="159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Exposure04" descr=""/>
          <p:cNvPicPr/>
          <p:nvPr/>
        </p:nvPicPr>
        <p:blipFill>
          <a:blip r:embed="rId5"/>
          <a:stretch/>
        </p:blipFill>
        <p:spPr>
          <a:xfrm>
            <a:off x="3276720" y="3276720"/>
            <a:ext cx="259056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Exposure05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2592360" cy="15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Exposure06" descr=""/>
          <p:cNvPicPr/>
          <p:nvPr/>
        </p:nvPicPr>
        <p:blipFill>
          <a:blip r:embed="rId7"/>
          <a:stretch/>
        </p:blipFill>
        <p:spPr>
          <a:xfrm>
            <a:off x="609480" y="4952880"/>
            <a:ext cx="259092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Exposure07" descr=""/>
          <p:cNvPicPr/>
          <p:nvPr/>
        </p:nvPicPr>
        <p:blipFill>
          <a:blip r:embed="rId8"/>
          <a:stretch/>
        </p:blipFill>
        <p:spPr>
          <a:xfrm>
            <a:off x="3276720" y="4952880"/>
            <a:ext cx="2593800" cy="14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Exposure08" descr=""/>
          <p:cNvPicPr/>
          <p:nvPr/>
        </p:nvPicPr>
        <p:blipFill>
          <a:blip r:embed="rId9"/>
          <a:stretch/>
        </p:blipFill>
        <p:spPr>
          <a:xfrm>
            <a:off x="5943600" y="4952880"/>
            <a:ext cx="259092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DoF01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7" name="DoF00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18" name="DoF02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Depth-of-Field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Motion Blu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22" name="MotionBlur01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3" name="MotionBlur00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4:27:01Z</dcterms:created>
  <dc:creator>Masaki Kawase</dc:creator>
  <dc:description/>
  <dc:language>en-US</dc:language>
  <cp:lastModifiedBy>Masaki Kawase</cp:lastModifiedBy>
  <dcterms:modified xsi:type="dcterms:W3CDTF">2004-03-17T19:38:59Z</dcterms:modified>
  <cp:revision>3319</cp:revision>
  <dc:subject/>
  <dc:title>Practical Implementation of High Dynamic Range Rendering</dc:title>
</cp:coreProperties>
</file>