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0.jpeg" ContentType="image/jpeg"/>
  <Override PartName="/ppt/media/image34.png" ContentType="image/pn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31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29.jpeg" ContentType="image/jpeg"/>
  <Override PartName="/ppt/media/image5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51.jpeg" ContentType="image/jpeg"/>
  <Override PartName="/ppt/media/image54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398484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792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948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824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948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824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76212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792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clouds2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3" name="gdclogo" descr=""/>
          <p:cNvPicPr/>
          <p:nvPr/>
        </p:nvPicPr>
        <p:blipFill>
          <a:blip r:embed="rId3"/>
          <a:stretch/>
        </p:blipFill>
        <p:spPr>
          <a:xfrm>
            <a:off x="152280" y="6213600"/>
            <a:ext cx="2210040" cy="415800"/>
          </a:xfrm>
          <a:prstGeom prst="rect">
            <a:avLst/>
          </a:prstGeom>
          <a:ln w="0">
            <a:noFill/>
          </a:ln>
        </p:spPr>
      </p:pic>
      <p:pic>
        <p:nvPicPr>
          <p:cNvPr id="4" name="makebettergames" descr=""/>
          <p:cNvPicPr/>
          <p:nvPr/>
        </p:nvPicPr>
        <p:blipFill>
          <a:blip r:embed="rId4"/>
          <a:stretch/>
        </p:blipFill>
        <p:spPr>
          <a:xfrm>
            <a:off x="2590920" y="6318360"/>
            <a:ext cx="6400800" cy="2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nkasha-games.com/" TargetMode="External"/><Relationship Id="rId2" Type="http://schemas.openxmlformats.org/officeDocument/2006/relationships/hyperlink" Target="http://www.bunkasha-games.com/" TargetMode="External"/><Relationship Id="rId3" Type="http://schemas.openxmlformats.org/officeDocument/2006/relationships/hyperlink" Target="http://www.bunkasha-games.com/" TargetMode="External"/><Relationship Id="rId4" Type="http://schemas.openxmlformats.org/officeDocument/2006/relationships/hyperlink" Target="http://www.daionet.gr.jp/~masa/" TargetMode="External"/><Relationship Id="rId5" Type="http://schemas.openxmlformats.org/officeDocument/2006/relationships/hyperlink" Target="http://www.daionet.gr.jp/~masa/" TargetMode="External"/><Relationship Id="rId6" Type="http://schemas.openxmlformats.org/officeDocument/2006/relationships/hyperlink" Target="http://www.daionet.gr.jp/~masa/" TargetMode="External"/><Relationship Id="rId7" Type="http://schemas.openxmlformats.org/officeDocument/2006/relationships/hyperlink" Target="http://www.daionet.gr.jp/~masa/" TargetMode="External"/><Relationship Id="rId8" Type="http://schemas.openxmlformats.org/officeDocument/2006/relationships/hyperlink" Target="http://www.daionet.gr.jp/~masa/" TargetMode="External"/><Relationship Id="rId9" Type="http://schemas.openxmlformats.org/officeDocument/2006/relationships/hyperlink" Target="http://www.daionet.gr.jp/~masa/" TargetMode="External"/><Relationship Id="rId10" Type="http://schemas.openxmlformats.org/officeDocument/2006/relationships/hyperlink" Target="http://www.daionet.gr.jp/~masa/" TargetMode="External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2.png"/><Relationship Id="rId4" Type="http://schemas.openxmlformats.org/officeDocument/2006/relationships/image" Target="../media/image34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ame Buffer Postprocessing Effects in DOUBLE-S.T.E.A.L (Wreckle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4114440"/>
            <a:ext cx="5181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lr oSVbN"/>
              </a:rPr>
              <a:t>Masaki Kawa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lr oSVbN"/>
              </a:rPr>
              <a:t>BUNKASHA GAM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lr oSVbN"/>
              </a:rPr>
              <a:t>BUNKASHA PUBLISHING CO.,LT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1"/>
              </a:rPr>
              <a:t>http://www.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2"/>
              </a:rPr>
              <a:t>bunkasha-games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3"/>
              </a:rPr>
              <a:t>.com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4"/>
              </a:rPr>
              <a:t>http://www.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5"/>
              </a:rPr>
              <a:t>daionet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6"/>
              </a:rPr>
              <a:t>.gr.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7"/>
              </a:rPr>
              <a:t>jp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8"/>
              </a:rPr>
              <a:t>/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9"/>
              </a:rPr>
              <a:t>~masa</a:t>
            </a:r>
            <a:r>
              <a:rPr b="1" lang="ja-JP" sz="1200" spc="-1" strike="noStrike" u="sng">
                <a:solidFill>
                  <a:srgbClr val="93097c"/>
                </a:solidFill>
                <a:uFillTx/>
                <a:latin typeface="Tahoma"/>
                <a:ea typeface="ＭＳ Ｐゴシック"/>
                <a:hlinkClick r:id="rId10"/>
              </a:rPr>
              <a:t>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DR Rendering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1629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 scene with HD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Generate glare images from bright pix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d glare to Frame Buff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DR Scene Rendering with A8R8G8B8 Frame Buff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Glare effects need HD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alpha channel as an additional information about pixel brightn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 scene with alpha chann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utput higher alpha values to bright pixe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lare-generation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0003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0007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0004" descr=""/>
          <p:cNvPicPr/>
          <p:nvPr/>
        </p:nvPicPr>
        <p:blipFill>
          <a:blip r:embed="rId3"/>
          <a:stretch/>
        </p:blipFill>
        <p:spPr>
          <a:xfrm>
            <a:off x="3429000" y="3809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0008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0006" descr=""/>
          <p:cNvPicPr/>
          <p:nvPr/>
        </p:nvPicPr>
        <p:blipFill>
          <a:blip r:embed="rId5"/>
          <a:stretch/>
        </p:blipFill>
        <p:spPr>
          <a:xfrm>
            <a:off x="6172200" y="16002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71" name="0005" descr=""/>
          <p:cNvPicPr/>
          <p:nvPr/>
        </p:nvPicPr>
        <p:blipFill>
          <a:blip r:embed="rId6"/>
          <a:stretch/>
        </p:blipFill>
        <p:spPr>
          <a:xfrm>
            <a:off x="6172200" y="38862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5480" y="35053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4290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2680" y="13716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am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4960" y="13716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ame buffer 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6000" y="54100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nerate gl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6880" y="5410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6400" y="56386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3260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4200" y="4419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19080" y="12193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am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60199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lare filte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wnsample frame buffer to</a:t>
            </a:r>
            <a:br>
              <a:rPr sz="2800"/>
            </a:br>
            <a:r>
              <a:rPr b="1" lang="ja-JP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¼ * ¼ (1/16) the siz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ixel brightness = </a:t>
            </a:r>
            <a:r>
              <a:rPr b="1" lang="ja-JP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RGB * 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te gl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terim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r (light streak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 (not used in DOUBLE-S.T.E.A.L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terimag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pdate afterim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xt afterimage =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vious frame afterimage * p +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urrent frame image * c – 1/255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: previous image weigh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: current image weigh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’s not LERP (Linear intERPolation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p+c can be greater than 1.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g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 = 0.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 = 0.2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Bias –1/255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vent dirty pixels from remain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peatedly apply small b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ur fil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grace_blur0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grace_blur2" descr=""/>
          <p:cNvPicPr/>
          <p:nvPr/>
        </p:nvPicPr>
        <p:blipFill>
          <a:blip r:embed="rId2"/>
          <a:stretch/>
        </p:blipFill>
        <p:spPr>
          <a:xfrm>
            <a:off x="434340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grace_blur1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2743200" cy="205740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>
            <a:stCxn id="89" idx="1"/>
            <a:endCxn id="91" idx="3"/>
          </p:cNvCxnSpPr>
          <p:nvPr/>
        </p:nvCxnSpPr>
        <p:spPr>
          <a:xfrm flipV="1" rot="10800000">
            <a:off x="4114080" y="3085920"/>
            <a:ext cx="991440" cy="838800"/>
          </a:xfrm>
          <a:prstGeom prst="bentConnector3">
            <a:avLst>
              <a:gd name="adj1" fmla="val 49981"/>
            </a:avLst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3" name=""/>
          <p:cNvCxnSpPr>
            <a:stCxn id="91" idx="2"/>
            <a:endCxn id="90" idx="1"/>
          </p:cNvCxnSpPr>
          <p:nvPr/>
        </p:nvCxnSpPr>
        <p:spPr>
          <a:xfrm flipH="1" rot="16200000">
            <a:off x="3409200" y="4285440"/>
            <a:ext cx="267120" cy="160092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 filter (1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523880" y="2209680"/>
            <a:ext cx="2828880" cy="2895480"/>
            <a:chOff x="1523880" y="2209680"/>
            <a:chExt cx="2828880" cy="2895480"/>
          </a:xfrm>
        </p:grpSpPr>
        <p:sp>
          <p:nvSpPr>
            <p:cNvPr id="96" name=""/>
            <p:cNvSpPr/>
            <p:nvPr/>
          </p:nvSpPr>
          <p:spPr>
            <a:xfrm>
              <a:off x="2743200" y="3504960"/>
              <a:ext cx="380880" cy="3812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3880" y="2209680"/>
              <a:ext cx="2828880" cy="2895480"/>
              <a:chOff x="1523880" y="2209680"/>
              <a:chExt cx="2828880" cy="2895480"/>
            </a:xfrm>
          </p:grpSpPr>
          <p:sp>
            <p:nvSpPr>
              <p:cNvPr id="98" name=""/>
              <p:cNvSpPr/>
              <p:nvPr/>
            </p:nvSpPr>
            <p:spPr>
              <a:xfrm>
                <a:off x="1523880" y="2209680"/>
                <a:ext cx="2828880" cy="2895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23880" y="3219480"/>
                <a:ext cx="2828880" cy="144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23880" y="4162320"/>
                <a:ext cx="2828880" cy="10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66720" y="2209680"/>
                <a:ext cx="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09920" y="2209680"/>
                <a:ext cx="108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200400" y="30477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0" y="30477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0" y="39621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3962160"/>
              <a:ext cx="380880" cy="381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38080" y="5715000"/>
            <a:ext cx="432000" cy="3808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56386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ure sampl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24280" y="2209680"/>
            <a:ext cx="2971800" cy="2895480"/>
            <a:chOff x="4724280" y="2209680"/>
            <a:chExt cx="2971800" cy="2895480"/>
          </a:xfrm>
        </p:grpSpPr>
        <p:grpSp>
          <p:nvGrpSpPr>
            <p:cNvPr id="110" name=""/>
            <p:cNvGrpSpPr/>
            <p:nvPr/>
          </p:nvGrpSpPr>
          <p:grpSpPr>
            <a:xfrm>
              <a:off x="4724280" y="2209680"/>
              <a:ext cx="2828880" cy="2895480"/>
              <a:chOff x="4724280" y="2209680"/>
              <a:chExt cx="2828880" cy="2895480"/>
            </a:xfrm>
          </p:grpSpPr>
          <p:sp>
            <p:nvSpPr>
              <p:cNvPr id="111" name=""/>
              <p:cNvSpPr/>
              <p:nvPr/>
            </p:nvSpPr>
            <p:spPr>
              <a:xfrm>
                <a:off x="4724280" y="2209680"/>
                <a:ext cx="2828880" cy="2895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24280" y="3219480"/>
                <a:ext cx="2828880" cy="144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24280" y="4162320"/>
                <a:ext cx="2828880" cy="10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67120" y="2209680"/>
                <a:ext cx="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10320" y="2209680"/>
                <a:ext cx="1080" cy="289548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724280" y="25146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4193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040" y="441936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040" y="251460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29040" y="350496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44193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4280" y="35049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38680" y="350496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4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25146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/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38080" y="5181480"/>
            <a:ext cx="4267440" cy="457200"/>
            <a:chOff x="838080" y="5181480"/>
            <a:chExt cx="4267440" cy="457200"/>
          </a:xfrm>
        </p:grpSpPr>
        <p:sp>
          <p:nvSpPr>
            <p:cNvPr id="126" name=""/>
            <p:cNvSpPr/>
            <p:nvPr/>
          </p:nvSpPr>
          <p:spPr>
            <a:xfrm>
              <a:off x="838080" y="5257800"/>
              <a:ext cx="381240" cy="3808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5280" y="518148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ixel being Rende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252440" y="167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oom filter (2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3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rd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…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438280"/>
            <a:ext cx="2133720" cy="2286000"/>
            <a:chOff x="914400" y="2438280"/>
            <a:chExt cx="2133720" cy="2286000"/>
          </a:xfrm>
        </p:grpSpPr>
        <p:sp>
          <p:nvSpPr>
            <p:cNvPr id="131" name=""/>
            <p:cNvSpPr/>
            <p:nvPr/>
          </p:nvSpPr>
          <p:spPr>
            <a:xfrm>
              <a:off x="1891080" y="3520800"/>
              <a:ext cx="229680" cy="240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2438280"/>
              <a:ext cx="2133720" cy="228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291960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340056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4120" y="2438280"/>
              <a:ext cx="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6240" y="2438280"/>
              <a:ext cx="108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8920" y="2799000"/>
              <a:ext cx="229680" cy="240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388188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4303080"/>
              <a:ext cx="213372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5960" y="2438280"/>
              <a:ext cx="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440" y="2438280"/>
              <a:ext cx="1080" cy="22860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23600" y="2799000"/>
              <a:ext cx="229680" cy="240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8920" y="4182840"/>
              <a:ext cx="229680" cy="240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3600" y="4182840"/>
              <a:ext cx="229680" cy="240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800" y="2362320"/>
            <a:ext cx="2514600" cy="2514600"/>
            <a:chOff x="5257800" y="2362320"/>
            <a:chExt cx="2514600" cy="2514600"/>
          </a:xfrm>
        </p:grpSpPr>
        <p:sp>
          <p:nvSpPr>
            <p:cNvPr id="146" name=""/>
            <p:cNvSpPr/>
            <p:nvPr/>
          </p:nvSpPr>
          <p:spPr>
            <a:xfrm>
              <a:off x="6407280" y="3511800"/>
              <a:ext cx="215280" cy="21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57800" y="2362320"/>
              <a:ext cx="2514600" cy="2514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72160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308052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7080" y="2362320"/>
              <a:ext cx="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76000" y="2362320"/>
              <a:ext cx="108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7800" y="3439800"/>
              <a:ext cx="2514600" cy="144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35280" y="2362320"/>
              <a:ext cx="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4560" y="2362320"/>
              <a:ext cx="108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53840" y="2362320"/>
              <a:ext cx="108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12760" y="2362320"/>
              <a:ext cx="1440" cy="251460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79908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4158360"/>
              <a:ext cx="2514600" cy="10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7800" y="4517280"/>
              <a:ext cx="2514600" cy="144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69120" y="264960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45080" y="264960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45080" y="437364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69120" y="4373640"/>
              <a:ext cx="215280" cy="2152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98840" y="18288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63040" y="18288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657600"/>
            <a:ext cx="1524240" cy="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4760" y="556272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eat as many times as you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0640" y="4876920"/>
            <a:ext cx="3675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etTexture(0-3, 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</a:rPr>
              <a:t>st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 render targe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)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55120" y="5029200"/>
            <a:ext cx="3719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etTexture(0-3, 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</a:rPr>
              <a:t>nd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 render targe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) 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r (light streak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grace_star4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72" name="stpeters_star4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175248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6858000" y="1981080"/>
          <a:ext cx="1752480" cy="13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81080"/>
                    <a:ext cx="175248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00600" y="1981080"/>
          <a:ext cx="1752480" cy="131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981080"/>
                    <a:ext cx="175248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15000" y="3505320"/>
            <a:ext cx="0" cy="76176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used b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ffraction or refrac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f incoming ligh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oss 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op (Diaphragm blade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505320"/>
            <a:ext cx="0" cy="76176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ght streak (1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724280" y="2971800"/>
            <a:ext cx="3809520" cy="951840"/>
            <a:chOff x="4724280" y="2971800"/>
            <a:chExt cx="3809520" cy="951840"/>
          </a:xfrm>
        </p:grpSpPr>
        <p:grpSp>
          <p:nvGrpSpPr>
            <p:cNvPr id="182" name=""/>
            <p:cNvGrpSpPr/>
            <p:nvPr/>
          </p:nvGrpSpPr>
          <p:grpSpPr>
            <a:xfrm>
              <a:off x="4724280" y="2971800"/>
              <a:ext cx="3809520" cy="951840"/>
              <a:chOff x="4724280" y="2971800"/>
              <a:chExt cx="3809520" cy="951840"/>
            </a:xfrm>
          </p:grpSpPr>
          <p:sp>
            <p:nvSpPr>
              <p:cNvPr id="183" name=""/>
              <p:cNvSpPr/>
              <p:nvPr/>
            </p:nvSpPr>
            <p:spPr>
              <a:xfrm>
                <a:off x="4724280" y="2971800"/>
                <a:ext cx="3809520" cy="95184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29040" y="2971800"/>
                <a:ext cx="952200" cy="95184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76480" y="2971800"/>
                <a:ext cx="952200" cy="95184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793280" y="3183480"/>
              <a:ext cx="528840" cy="5288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0720" y="3183480"/>
              <a:ext cx="528840" cy="5288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8160" y="3183480"/>
              <a:ext cx="528840" cy="5288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829760" y="3077640"/>
              <a:ext cx="740520" cy="740520"/>
              <a:chOff x="4829760" y="3077640"/>
              <a:chExt cx="740520" cy="740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829760" y="3077640"/>
                <a:ext cx="740520" cy="7405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35240" y="3183480"/>
                <a:ext cx="529560" cy="5284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[s] = rendering point +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s texe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weight[s] =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^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48492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36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5432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6872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4320" y="39625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ght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7600" y="54864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4-pixel bl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4191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: attenuation(about ~0.9-0.9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: sampling (texture stage 0-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grace_star1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91904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344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2380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38200" y="25146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day’s Content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box Direct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ke HDR and Glare fil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pth of Field (DOF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st-processing image fil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ght streak (2</a:t>
            </a:r>
            <a:r>
              <a:rPr b="1" lang="ja-JP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</a:t>
            </a: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tTexture(s,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</a:t>
            </a:r>
            <a:r>
              <a:rPr b="1" lang="ja-JP" sz="2400" spc="-1" strike="noStrike" baseline="30000">
                <a:solidFill>
                  <a:srgbClr val="ff0000"/>
                </a:solidFill>
                <a:latin typeface="Tahoma"/>
                <a:ea typeface="ＭＳ Ｐゴシック"/>
              </a:rPr>
              <a:t>st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 render target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[s] =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ing point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+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4*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weight[s] =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^(4*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76520" y="3503520"/>
            <a:ext cx="1600200" cy="389160"/>
            <a:chOff x="1676520" y="3503520"/>
            <a:chExt cx="1600200" cy="389160"/>
          </a:xfrm>
        </p:grpSpPr>
        <p:sp>
          <p:nvSpPr>
            <p:cNvPr id="208" name=""/>
            <p:cNvSpPr/>
            <p:nvPr/>
          </p:nvSpPr>
          <p:spPr>
            <a:xfrm>
              <a:off x="167652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7644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648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96532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6536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6540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20800" y="3544920"/>
            <a:ext cx="311040" cy="303120"/>
            <a:chOff x="1720800" y="3544920"/>
            <a:chExt cx="311040" cy="303120"/>
          </a:xfrm>
        </p:grpSpPr>
        <p:sp>
          <p:nvSpPr>
            <p:cNvPr id="215" name=""/>
            <p:cNvSpPr/>
            <p:nvPr/>
          </p:nvSpPr>
          <p:spPr>
            <a:xfrm>
              <a:off x="1720800" y="3544920"/>
              <a:ext cx="311040" cy="303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5080" y="3588120"/>
              <a:ext cx="222480" cy="2163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52680" y="3503520"/>
            <a:ext cx="1600200" cy="389160"/>
            <a:chOff x="3352680" y="3503520"/>
            <a:chExt cx="1600200" cy="389160"/>
          </a:xfrm>
        </p:grpSpPr>
        <p:sp>
          <p:nvSpPr>
            <p:cNvPr id="218" name=""/>
            <p:cNvSpPr/>
            <p:nvPr/>
          </p:nvSpPr>
          <p:spPr>
            <a:xfrm>
              <a:off x="335268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5260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5264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64184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4188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192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41600" y="3587760"/>
            <a:ext cx="22248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29200" y="3503520"/>
            <a:ext cx="1600200" cy="389160"/>
            <a:chOff x="5029200" y="3503520"/>
            <a:chExt cx="1600200" cy="389160"/>
          </a:xfrm>
        </p:grpSpPr>
        <p:sp>
          <p:nvSpPr>
            <p:cNvPr id="226" name=""/>
            <p:cNvSpPr/>
            <p:nvPr/>
          </p:nvSpPr>
          <p:spPr>
            <a:xfrm>
              <a:off x="502920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2912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2916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31836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1804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808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18120" y="3587760"/>
            <a:ext cx="22212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05720" y="3503520"/>
            <a:ext cx="1600200" cy="389160"/>
            <a:chOff x="6705720" y="3503520"/>
            <a:chExt cx="1600200" cy="389160"/>
          </a:xfrm>
        </p:grpSpPr>
        <p:sp>
          <p:nvSpPr>
            <p:cNvPr id="234" name=""/>
            <p:cNvSpPr/>
            <p:nvPr/>
          </p:nvSpPr>
          <p:spPr>
            <a:xfrm>
              <a:off x="6705720" y="3503520"/>
              <a:ext cx="160020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0564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05680" y="3503520"/>
              <a:ext cx="399960" cy="389160"/>
            </a:xfrm>
            <a:prstGeom prst="rect">
              <a:avLst/>
            </a:prstGeom>
            <a:noFill/>
            <a:ln cap="sq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994520" y="3587760"/>
            <a:ext cx="22248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9456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4600" y="3587760"/>
            <a:ext cx="222120" cy="216000"/>
          </a:xfrm>
          <a:prstGeom prst="ellipse">
            <a:avLst/>
          </a:prstGeom>
          <a:solidFill>
            <a:srgbClr val="ffc1c1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94640" y="3587760"/>
            <a:ext cx="22212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060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8252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35000" y="3962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6860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69000" y="396252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2240" y="556272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16-pixel bl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grace_star2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26600" y="31305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4680" y="3130560"/>
            <a:ext cx="6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02960" y="31305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79480" y="31305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ght streak (n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tTexture(s, 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n-1</a:t>
            </a:r>
            <a:r>
              <a:rPr b="1" lang="ja-JP" sz="2000" spc="-1" strike="noStrike" baseline="30000">
                <a:solidFill>
                  <a:srgbClr val="ff0000"/>
                </a:solidFill>
                <a:latin typeface="Tahoma"/>
                <a:ea typeface="ＭＳ Ｐゴシック"/>
              </a:rPr>
              <a:t>th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 render target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 = 4^(n-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[s] = rendering point + 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b*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weight[s] = 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^(b*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dulate color for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ectral disper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4^n-pixel bl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=2 or 3 for good resul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grace_star3" descr=""/>
          <p:cNvPicPr/>
          <p:nvPr/>
        </p:nvPicPr>
        <p:blipFill>
          <a:blip r:embed="rId1"/>
          <a:stretch/>
        </p:blipFill>
        <p:spPr>
          <a:xfrm>
            <a:off x="6172200" y="4267080"/>
            <a:ext cx="2565360" cy="1924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505920" y="3505320"/>
            <a:ext cx="17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rd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-pixel bl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peat the above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grace_star1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58" name="grace_star2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59" name="grace_star3" descr=""/>
          <p:cNvPicPr/>
          <p:nvPr/>
        </p:nvPicPr>
        <p:blipFill>
          <a:blip r:embed="rId3"/>
          <a:stretch/>
        </p:blipFill>
        <p:spPr>
          <a:xfrm>
            <a:off x="4038480" y="2819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60" name="grace_star4" descr=""/>
          <p:cNvPicPr/>
          <p:nvPr/>
        </p:nvPicPr>
        <p:blipFill>
          <a:blip r:embed="rId4"/>
          <a:stretch/>
        </p:blipFill>
        <p:spPr>
          <a:xfrm>
            <a:off x="7086600" y="28195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261" name="stpeters_star1" descr=""/>
          <p:cNvPicPr/>
          <p:nvPr/>
        </p:nvPicPr>
        <p:blipFill>
          <a:blip r:embed="rId5"/>
          <a:stretch/>
        </p:blipFill>
        <p:spPr>
          <a:xfrm>
            <a:off x="380880" y="434340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62" name="stpeters_star2" descr=""/>
          <p:cNvPicPr/>
          <p:nvPr/>
        </p:nvPicPr>
        <p:blipFill>
          <a:blip r:embed="rId6"/>
          <a:stretch/>
        </p:blipFill>
        <p:spPr>
          <a:xfrm>
            <a:off x="2209680" y="434340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263" name="stpeters_star4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264" name="stpeters_star3" descr=""/>
          <p:cNvPicPr/>
          <p:nvPr/>
        </p:nvPicPr>
        <p:blipFill>
          <a:blip r:embed="rId8"/>
          <a:stretch/>
        </p:blipFill>
        <p:spPr>
          <a:xfrm>
            <a:off x="4038480" y="434340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214520" y="243828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64200" y="2438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320" y="243828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2362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4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3429000"/>
            <a:ext cx="9144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6400" y="563868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86800" y="56386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16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15600" y="56386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64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30520" y="563868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64*4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, 4, 6 or 8 dire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4952880"/>
            <a:ext cx="9144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lare_build" descr=""/>
          <p:cNvPicPr/>
          <p:nvPr/>
        </p:nvPicPr>
        <p:blipFill>
          <a:blip r:embed="rId1"/>
          <a:stretch/>
        </p:blipFill>
        <p:spPr>
          <a:xfrm>
            <a:off x="539100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flare_00" descr=""/>
          <p:cNvPicPr/>
          <p:nvPr/>
        </p:nvPicPr>
        <p:blipFill>
          <a:blip r:embed="rId2"/>
          <a:stretch/>
        </p:blipFill>
        <p:spPr>
          <a:xfrm>
            <a:off x="1200240" y="346716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flare_build4" descr=""/>
          <p:cNvPicPr/>
          <p:nvPr/>
        </p:nvPicPr>
        <p:blipFill>
          <a:blip r:embed="rId3"/>
          <a:stretch/>
        </p:blipFill>
        <p:spPr>
          <a:xfrm>
            <a:off x="5410080" y="152280"/>
            <a:ext cx="3029040" cy="4038840"/>
          </a:xfrm>
          <a:prstGeom prst="rect">
            <a:avLst/>
          </a:prstGeom>
          <a:ln w="0">
            <a:noFill/>
          </a:ln>
        </p:spPr>
      </p:pic>
      <p:pic>
        <p:nvPicPr>
          <p:cNvPr id="279" name="flare_06" descr=""/>
          <p:cNvPicPr/>
          <p:nvPr/>
        </p:nvPicPr>
        <p:blipFill>
          <a:blip r:embed="rId4"/>
          <a:stretch/>
        </p:blipFill>
        <p:spPr>
          <a:xfrm>
            <a:off x="1200240" y="28584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86200" y="6553080"/>
            <a:ext cx="487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lare_0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82" name="flare_04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283" name="flare_02" descr=""/>
          <p:cNvPicPr/>
          <p:nvPr/>
        </p:nvPicPr>
        <p:blipFill>
          <a:blip r:embed="rId3"/>
          <a:stretch/>
        </p:blipFill>
        <p:spPr>
          <a:xfrm>
            <a:off x="4724280" y="3808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84" name="flare_03" descr=""/>
          <p:cNvPicPr/>
          <p:nvPr/>
        </p:nvPicPr>
        <p:blipFill>
          <a:blip r:embed="rId4"/>
          <a:stretch/>
        </p:blipFill>
        <p:spPr>
          <a:xfrm>
            <a:off x="4724280" y="32767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962520" y="6095880"/>
            <a:ext cx="4876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1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not used in DOUBLE-S.T.E.A.L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_038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3504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us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nal reflections inside the lens syste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caling about the screen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caling about the screen center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coord = (original texcoord - 0.5) * s + 0.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:  An arbitrary scaling fact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grace_blur1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143000" y="3505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3505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,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57913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5791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0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 = -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grace_blur1_rscale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038480" y="5334120"/>
            <a:ext cx="1600200" cy="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0.5,-0.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38880" y="3505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5,-0,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5791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5,1.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0.5,1.5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1160" y="3200400"/>
            <a:ext cx="24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original texco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8680" y="32004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scaled texco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06560" y="274320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.g. scaling by s = -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 (1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sk the source images with a smooth circ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prevent rectangular edg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circletrim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309" name="grace_ghost1" descr=""/>
          <p:cNvPicPr/>
          <p:nvPr/>
        </p:nvPicPr>
        <p:blipFill>
          <a:blip r:embed="rId2"/>
          <a:stretch/>
        </p:blipFill>
        <p:spPr>
          <a:xfrm>
            <a:off x="3733920" y="464832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310" name="grace_blur1" descr=""/>
          <p:cNvPicPr/>
          <p:nvPr/>
        </p:nvPicPr>
        <p:blipFill>
          <a:blip r:embed="rId3"/>
          <a:stretch/>
        </p:blipFill>
        <p:spPr>
          <a:xfrm>
            <a:off x="1447920" y="28954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11" name="grace_blur3" descr=""/>
          <p:cNvPicPr/>
          <p:nvPr/>
        </p:nvPicPr>
        <p:blipFill>
          <a:blip r:embed="rId4"/>
          <a:stretch/>
        </p:blipFill>
        <p:spPr>
          <a:xfrm>
            <a:off x="5105520" y="28954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12" name="circletrim" descr=""/>
          <p:cNvPicPr/>
          <p:nvPr/>
        </p:nvPicPr>
        <p:blipFill>
          <a:blip r:embed="rId5"/>
          <a:stretch/>
        </p:blipFill>
        <p:spPr>
          <a:xfrm>
            <a:off x="6705720" y="2895480"/>
            <a:ext cx="1295280" cy="990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756520" y="320040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14120" y="320040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3962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3657600"/>
            <a:ext cx="0" cy="83808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2844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host (2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 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nd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</a:t>
            </a:r>
            <a:r>
              <a:rPr b="1" lang="en-US" sz="38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rd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es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ti-tap scaling and color modu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grace_ghost1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8052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grace_ghost2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2032200" cy="1524240"/>
          </a:xfrm>
          <a:prstGeom prst="rect">
            <a:avLst/>
          </a:prstGeom>
          <a:ln w="0">
            <a:noFill/>
          </a:ln>
        </p:spPr>
      </p:pic>
      <p:pic>
        <p:nvPicPr>
          <p:cNvPr id="324" name="grace_ghost1" descr=""/>
          <p:cNvPicPr/>
          <p:nvPr/>
        </p:nvPicPr>
        <p:blipFill>
          <a:blip r:embed="rId3"/>
          <a:stretch/>
        </p:blipFill>
        <p:spPr>
          <a:xfrm>
            <a:off x="3657600" y="24382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25" name="grace_ghost1" descr=""/>
          <p:cNvPicPr/>
          <p:nvPr/>
        </p:nvPicPr>
        <p:blipFill>
          <a:blip r:embed="rId4"/>
          <a:stretch/>
        </p:blipFill>
        <p:spPr>
          <a:xfrm>
            <a:off x="5410080" y="243828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326" name="grace_ghost1" descr=""/>
          <p:cNvPicPr/>
          <p:nvPr/>
        </p:nvPicPr>
        <p:blipFill>
          <a:blip r:embed="rId5"/>
          <a:stretch/>
        </p:blipFill>
        <p:spPr>
          <a:xfrm>
            <a:off x="7162920" y="2438280"/>
            <a:ext cx="1295280" cy="971640"/>
          </a:xfrm>
          <a:prstGeom prst="rect">
            <a:avLst/>
          </a:prstGeom>
          <a:ln w="0">
            <a:noFill/>
          </a:ln>
        </p:spPr>
      </p:pic>
      <p:cxnSp>
        <p:nvCxnSpPr>
          <p:cNvPr id="327" name=""/>
          <p:cNvCxnSpPr>
            <a:stCxn id="321" idx="2"/>
            <a:endCxn id="322" idx="1"/>
          </p:cNvCxnSpPr>
          <p:nvPr/>
        </p:nvCxnSpPr>
        <p:spPr>
          <a:xfrm flipH="1" rot="16200000">
            <a:off x="2386800" y="3575520"/>
            <a:ext cx="828000" cy="49608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28" name=""/>
          <p:cNvCxnSpPr>
            <a:stCxn id="324" idx="2"/>
            <a:endCxn id="322" idx="3"/>
          </p:cNvCxnSpPr>
          <p:nvPr/>
        </p:nvCxnSpPr>
        <p:spPr>
          <a:xfrm rot="5400000">
            <a:off x="3458160" y="3390840"/>
            <a:ext cx="828000" cy="86580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29" name=""/>
          <p:cNvCxnSpPr>
            <a:stCxn id="325" idx="2"/>
            <a:endCxn id="322" idx="3"/>
          </p:cNvCxnSpPr>
          <p:nvPr/>
        </p:nvCxnSpPr>
        <p:spPr>
          <a:xfrm rot="5400000">
            <a:off x="4335120" y="2514600"/>
            <a:ext cx="828000" cy="261828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0" name=""/>
          <p:cNvCxnSpPr>
            <a:stCxn id="326" idx="2"/>
            <a:endCxn id="322" idx="3"/>
          </p:cNvCxnSpPr>
          <p:nvPr/>
        </p:nvCxnSpPr>
        <p:spPr>
          <a:xfrm rot="5400000">
            <a:off x="5211000" y="1638360"/>
            <a:ext cx="828000" cy="4371120"/>
          </a:xfrm>
          <a:prstGeom prst="bentConnector2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31" name=""/>
          <p:cNvSpPr/>
          <p:nvPr/>
        </p:nvSpPr>
        <p:spPr>
          <a:xfrm>
            <a:off x="1828800" y="3581280"/>
            <a:ext cx="6705720" cy="3988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aling and color mod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grace_ghost3" descr=""/>
          <p:cNvPicPr/>
          <p:nvPr/>
        </p:nvPicPr>
        <p:blipFill>
          <a:blip r:embed="rId6"/>
          <a:stretch/>
        </p:blipFill>
        <p:spPr>
          <a:xfrm>
            <a:off x="5867280" y="4724280"/>
            <a:ext cx="2057400" cy="1543320"/>
          </a:xfrm>
          <a:prstGeom prst="rect">
            <a:avLst/>
          </a:prstGeom>
          <a:ln w="0">
            <a:noFill/>
          </a:ln>
        </p:spPr>
      </p:pic>
      <p:cxnSp>
        <p:nvCxnSpPr>
          <p:cNvPr id="333" name=""/>
          <p:cNvCxnSpPr>
            <a:stCxn id="322" idx="2"/>
            <a:endCxn id="323" idx="0"/>
          </p:cNvCxnSpPr>
          <p:nvPr/>
        </p:nvCxnSpPr>
        <p:spPr>
          <a:xfrm flipH="1">
            <a:off x="3225600" y="4435560"/>
            <a:ext cx="19440" cy="289440"/>
          </a:xfrm>
          <a:prstGeom prst="straightConnector1">
            <a:avLst/>
          </a:prstGeom>
          <a:ln cap="sq" w="507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4" name=""/>
          <p:cNvCxnSpPr>
            <a:stCxn id="323" idx="1"/>
            <a:endCxn id="321" idx="0"/>
          </p:cNvCxnSpPr>
          <p:nvPr/>
        </p:nvCxnSpPr>
        <p:spPr>
          <a:xfrm flipH="1" rot="10800000">
            <a:off x="2208600" y="2437560"/>
            <a:ext cx="343800" cy="3048840"/>
          </a:xfrm>
          <a:prstGeom prst="bentConnector4">
            <a:avLst>
              <a:gd name="adj1" fmla="val -266666"/>
              <a:gd name="adj2" fmla="val 107498"/>
            </a:avLst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35" name=""/>
          <p:cNvSpPr/>
          <p:nvPr/>
        </p:nvSpPr>
        <p:spPr>
          <a:xfrm>
            <a:off x="4343400" y="594360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4343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ghost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lare Effects in DirectX9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gh-Precision buffer forma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rue HD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frame buff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re complex pixel oper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orgeous glare effec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ill too expensive for gam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ll hopefully be of practical use in the near futu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box DirectX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box DirectX Extens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me as GeForce3 OpenGL Exten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ture shad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gister combine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hadow mapp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pability to typecast 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D3DFMT_D2S8 depth-buffer as a 3DFMT_A8R8G8B8 tex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nder to a Vertex Buff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_014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340" name="_026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341" name="_024" descr=""/>
          <p:cNvPicPr/>
          <p:nvPr/>
        </p:nvPicPr>
        <p:blipFill>
          <a:blip r:embed="rId3"/>
          <a:stretch/>
        </p:blipFill>
        <p:spPr>
          <a:xfrm>
            <a:off x="4572000" y="3808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pth of Field (DOF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dof_blur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962520" y="6019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Proc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depth buff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W buffer in DOUBLE-S.T.E.A.L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te blurred frame buff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be smaller than the frame buff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u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on’t use box filte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to resiz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ti-tap blur filter is recommende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screen-space blurriness based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 buffer and focal distance per pix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end the blurred image and the frame buffer based on the blurrines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ok up screen-space blurriness from W buff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ing screen-space blurriness per pixel is a bit complex ope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rectly look up blurriness from W val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D look-up textu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-bit table for mapping the W value to blurrines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blurriness for each W value by CPU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 bits : 256 elements per fram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okup screen-space blurrin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876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mpl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24S8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W value a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A8R8G8B8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tur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get th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highest 8 bits of depth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component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8-bit alph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by typecas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dependent texture rea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“texreg2ar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reg2ar” uses alpha and red components of another texture as the current texture coordinates (u,v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86400" y="2133720"/>
            <a:ext cx="2971800" cy="1389600"/>
            <a:chOff x="5486400" y="2133720"/>
            <a:chExt cx="2971800" cy="1389600"/>
          </a:xfrm>
        </p:grpSpPr>
        <p:sp>
          <p:nvSpPr>
            <p:cNvPr id="352" name=""/>
            <p:cNvSpPr/>
            <p:nvPr/>
          </p:nvSpPr>
          <p:spPr>
            <a:xfrm>
              <a:off x="5562720" y="31244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A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24840" y="31244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0640" y="31244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G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124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590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ypeca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34320" y="2667240"/>
              <a:ext cx="0" cy="3808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1992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2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2400" y="2133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486400" y="2133720"/>
              <a:ext cx="2971800" cy="380880"/>
              <a:chOff x="5486400" y="2133720"/>
              <a:chExt cx="2971800" cy="380880"/>
            </a:xfrm>
          </p:grpSpPr>
          <p:sp>
            <p:nvSpPr>
              <p:cNvPr id="361" name=""/>
              <p:cNvSpPr/>
              <p:nvPr/>
            </p:nvSpPr>
            <p:spPr>
              <a:xfrm>
                <a:off x="5486400" y="213372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86400" y="213372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48520" y="213372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486400" y="3124440"/>
              <a:ext cx="2971800" cy="380880"/>
              <a:chOff x="5486400" y="3124440"/>
              <a:chExt cx="2971800" cy="380880"/>
            </a:xfrm>
          </p:grpSpPr>
          <p:sp>
            <p:nvSpPr>
              <p:cNvPr id="365" name=""/>
              <p:cNvSpPr/>
              <p:nvPr/>
            </p:nvSpPr>
            <p:spPr>
              <a:xfrm>
                <a:off x="5486400" y="312444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86400" y="312444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48520" y="312444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okup blurrin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800240" y="50292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 the screen-space blurrines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19051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ok up screen-space blurriness from W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4191120"/>
            <a:ext cx="2743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-bit precision distance from cam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.0: camera pos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.0: far cl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851360" y="3581280"/>
            <a:ext cx="3746520" cy="838080"/>
            <a:chOff x="4851360" y="3581280"/>
            <a:chExt cx="3746520" cy="838080"/>
          </a:xfrm>
        </p:grpSpPr>
        <p:pic>
          <p:nvPicPr>
            <p:cNvPr id="373" name="dof_wtable" descr=""/>
            <p:cNvPicPr/>
            <p:nvPr/>
          </p:nvPicPr>
          <p:blipFill>
            <a:blip r:embed="rId1"/>
            <a:stretch/>
          </p:blipFill>
          <p:spPr>
            <a:xfrm>
              <a:off x="5285880" y="3962160"/>
              <a:ext cx="2994480" cy="45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74" name=""/>
            <p:cNvSpPr/>
            <p:nvPr/>
          </p:nvSpPr>
          <p:spPr>
            <a:xfrm>
              <a:off x="4851360" y="3581280"/>
              <a:ext cx="190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:0.0(camer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81720" y="358128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:1.0(fa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081760" y="30481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exreg2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1" idx="2"/>
            <a:endCxn id="376" idx="0"/>
          </p:cNvCxnSpPr>
          <p:nvPr/>
        </p:nvCxnSpPr>
        <p:spPr>
          <a:xfrm flipH="1" flipV="1" rot="5400000">
            <a:off x="2958120" y="2602800"/>
            <a:ext cx="2518200" cy="3407400"/>
          </a:xfrm>
          <a:prstGeom prst="bentConnector5">
            <a:avLst>
              <a:gd name="adj1" fmla="val -9064"/>
              <a:gd name="adj2" fmla="val 57734"/>
              <a:gd name="adj3" fmla="val 109064"/>
            </a:avLst>
          </a:prstGeom>
          <a:ln w="507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5505120" y="441972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D look-up tex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38080" y="2514600"/>
            <a:ext cx="2971800" cy="1389600"/>
            <a:chOff x="838080" y="2514600"/>
            <a:chExt cx="2971800" cy="1389600"/>
          </a:xfrm>
        </p:grpSpPr>
        <p:sp>
          <p:nvSpPr>
            <p:cNvPr id="380" name=""/>
            <p:cNvSpPr/>
            <p:nvPr/>
          </p:nvSpPr>
          <p:spPr>
            <a:xfrm>
              <a:off x="914400" y="3505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A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76520" y="3505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505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G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4080" y="35053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14400" y="297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ypeca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048120"/>
              <a:ext cx="0" cy="380880"/>
            </a:xfrm>
            <a:prstGeom prst="line">
              <a:avLst/>
            </a:prstGeom>
            <a:ln cap="sq"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25146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2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4080" y="25146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838080" y="2514600"/>
              <a:ext cx="2971800" cy="380880"/>
              <a:chOff x="838080" y="2514600"/>
              <a:chExt cx="2971800" cy="380880"/>
            </a:xfrm>
          </p:grpSpPr>
          <p:sp>
            <p:nvSpPr>
              <p:cNvPr id="389" name=""/>
              <p:cNvSpPr/>
              <p:nvPr/>
            </p:nvSpPr>
            <p:spPr>
              <a:xfrm>
                <a:off x="838080" y="251460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38080" y="251460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00200" y="251460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838080" y="3505320"/>
              <a:ext cx="2971800" cy="380880"/>
              <a:chOff x="838080" y="3505320"/>
              <a:chExt cx="2971800" cy="380880"/>
            </a:xfrm>
          </p:grpSpPr>
          <p:sp>
            <p:nvSpPr>
              <p:cNvPr id="393" name=""/>
              <p:cNvSpPr/>
              <p:nvPr/>
            </p:nvSpPr>
            <p:spPr>
              <a:xfrm>
                <a:off x="838080" y="3505320"/>
                <a:ext cx="297180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38080" y="3505320"/>
                <a:ext cx="2229120" cy="380880"/>
              </a:xfrm>
              <a:prstGeom prst="rect">
                <a:avLst/>
              </a:prstGeom>
              <a:noFill/>
              <a:ln cap="sq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00200" y="3505320"/>
                <a:ext cx="76212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ending based on blurrines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two blurred images in addi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the original frame buff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e is a bit blurred and the other is strongly blurr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DOF result is a blend of three imag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the frame buffer and two blurred image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tter than a blend of two imag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the frame buffer and one blurred imag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blurred images can be sma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256x19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60x12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in DOUBLE-S.T.E.A.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Blend factor Alpha and Color (1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“Blend Alpha” and “Blend Color” in Pixel Shad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pha-blend with the frame buff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end Alpha should always be smaller than 1.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deally, alpha and color outputs satisfy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 : screen-space blurrines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ur1 : a bit blurred image (256x192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lur2 : strongly blurred image (160x120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When r = 0.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a = 0.0 (no blen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rgb = blur1 (will not affect the result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0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resulting pixel is 100% the frame buffe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lculate Blend factor Alpha and Color (2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When r = 0.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a = somewhat smaller than 1.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rgb = blur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result is almost the blur1 im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When r = 1.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a = slightly smaller than 1.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rgb = a blend of blur1 and blur2 (almost blur2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The result is almost the blur2 image</a:t>
            </a:r>
            <a:r>
              <a:rPr b="1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Shader Cod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f (blurriness &gt; 0.5) 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ut.a = blurriness * 0.25 + 0.75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se 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ut.a = blurriness * 1.5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urriness: 0.0 -&gt; rgbFactor = -0.75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urriness: 0.5 -&gt; rgbFactor = 0.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urriness: 1.0 -&gt; rgbFactor = 0.75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gbFactor = blurriness * 0.75 - 0.75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lerp blur1 and blur2 by rgbFa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ut.rgb = blur1 + (blur2 - blur1) * rgbFactor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668480" y="1600200"/>
            <a:ext cx="3984480" cy="4116960"/>
            <a:chOff x="4668480" y="1600200"/>
            <a:chExt cx="3984480" cy="4116960"/>
          </a:xfrm>
        </p:grpSpPr>
        <p:sp>
          <p:nvSpPr>
            <p:cNvPr id="405" name=""/>
            <p:cNvSpPr/>
            <p:nvPr/>
          </p:nvSpPr>
          <p:spPr>
            <a:xfrm>
              <a:off x="6095160" y="54100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lurrin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57800" y="2666880"/>
              <a:ext cx="2743200" cy="243864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15360" y="49528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0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5360" y="228600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10840" y="5181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86400" y="5334120"/>
              <a:ext cx="21337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029200" y="2666880"/>
              <a:ext cx="0" cy="228600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39240" y="5181480"/>
              <a:ext cx="435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8480" y="3276720"/>
              <a:ext cx="537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0.7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39040" y="2819520"/>
              <a:ext cx="435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Tahoma"/>
                </a:rPr>
                <a:t>0.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57800" y="3429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629400" y="2666880"/>
              <a:ext cx="0" cy="2438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4240" y="243828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blur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4240" y="495288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blur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229600" y="2742840"/>
              <a:ext cx="0" cy="2133720"/>
            </a:xfrm>
            <a:prstGeom prst="line">
              <a:avLst/>
            </a:prstGeom>
            <a:ln cap="sq"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43960" y="5181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0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9280" y="160020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output.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48200" y="1905120"/>
              <a:ext cx="114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ff"/>
                  </a:solidFill>
                  <a:latin typeface="Tahoma"/>
                </a:rPr>
                <a:t>output.rg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57800" y="2971800"/>
              <a:ext cx="2743200" cy="2133720"/>
            </a:xfrm>
            <a:custGeom>
              <a:avLst/>
              <a:gdLst/>
              <a:ahLst/>
              <a:rect l="l" t="t" r="r" b="b"/>
              <a:pathLst>
                <a:path w="1728" h="1344">
                  <a:moveTo>
                    <a:pt x="0" y="1344"/>
                  </a:moveTo>
                  <a:lnTo>
                    <a:pt x="864" y="288"/>
                  </a:lnTo>
                  <a:lnTo>
                    <a:pt x="1728" y="0"/>
                  </a:lnTo>
                </a:path>
              </a:pathLst>
            </a:custGeom>
            <a:noFill/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22920" y="3405240"/>
              <a:ext cx="1371600" cy="1676520"/>
            </a:xfrm>
            <a:custGeom>
              <a:avLst/>
              <a:gdLst/>
              <a:ahLst/>
              <a:rect l="l" t="t" r="r" b="b"/>
              <a:pathLst>
                <a:path w="864" h="1056">
                  <a:moveTo>
                    <a:pt x="0" y="1056"/>
                  </a:moveTo>
                  <a:lnTo>
                    <a:pt x="864" y="0"/>
                  </a:lnTo>
                </a:path>
              </a:pathLst>
            </a:custGeom>
            <a:noFill/>
            <a:ln cap="sq"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1752480"/>
              <a:ext cx="855720" cy="1800"/>
            </a:xfrm>
            <a:custGeom>
              <a:avLst/>
              <a:gdLst/>
              <a:ahLst/>
              <a:rect l="l" t="t" r="r" b="b"/>
              <a:pathLst>
                <a:path w="539" h="1">
                  <a:moveTo>
                    <a:pt x="0" y="0"/>
                  </a:moveTo>
                  <a:lnTo>
                    <a:pt x="539" y="0"/>
                  </a:lnTo>
                </a:path>
              </a:pathLst>
            </a:custGeom>
            <a:noFill/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5880" y="2057400"/>
              <a:ext cx="855720" cy="1440"/>
            </a:xfrm>
            <a:custGeom>
              <a:avLst/>
              <a:gdLst/>
              <a:ahLst/>
              <a:rect l="l" t="t" r="r" b="b"/>
              <a:pathLst>
                <a:path w="539" h="1">
                  <a:moveTo>
                    <a:pt x="0" y="0"/>
                  </a:moveTo>
                  <a:lnTo>
                    <a:pt x="539" y="0"/>
                  </a:lnTo>
                </a:path>
              </a:pathLst>
            </a:custGeom>
            <a:noFill/>
            <a:ln cap="sq"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ixel Shader Extension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gister combiners for Pixel Shad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l combin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lor blending instruc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combi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g blend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ecular ad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6846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0,  0.0f, 0.0f, 0.0f,  0.15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(0.9f - 0.75f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1,  0.0f, 0.0f, 0.0f,  0.75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0.a : W buffer (distance from camera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reg2ar t1,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1.a : screen-space blurrines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2   : blurred frame buffer (256x192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t3   : strongly blurred buffer (160x120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d_d2 r0.rgb,  t1_bx2.a, c0.a,  c1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+mov r0.a,  t1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 r1.rgb,  t1_bx2.a, c1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+xmmc_x2 DISCARD.a, DISCARD.a, r0.a,  t1.a, c1.a,  1-ZERO, r0.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Color output will be alpha blended with the frame buffer based on the alpha outpu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fc r1.b, t3, t2, ZERO, ZERO, ZERO, r0.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5715000"/>
            <a:ext cx="54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ISCARD” output register discards the resul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F processing texture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2" name="dof_table_org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433" name="dof_table2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434" name="dof_wtable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281952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838080" y="45720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D look-up tex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at maps W value to blurr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53341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56x1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lurred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48520" y="5334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0x120 Strongly blur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1371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iginal fram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11430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 with blurr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8840" y="13716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6019920"/>
            <a:ext cx="4876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pth of Field image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dof_blur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4" name="dof_pin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dof_focus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6" name="dof2_blur" descr=""/>
          <p:cNvPicPr/>
          <p:nvPr/>
        </p:nvPicPr>
        <p:blipFill>
          <a:blip r:embed="rId4"/>
          <a:stretch/>
        </p:blipFill>
        <p:spPr>
          <a:xfrm>
            <a:off x="3352680" y="39625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7" name="dof2_focus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8" name="dof2_pin" descr=""/>
          <p:cNvPicPr/>
          <p:nvPr/>
        </p:nvPicPr>
        <p:blipFill>
          <a:blip r:embed="rId6"/>
          <a:stretch/>
        </p:blipFill>
        <p:spPr>
          <a:xfrm>
            <a:off x="533520" y="3962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85800" y="1371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iginal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11430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nal images with blurr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60199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Image (1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dof_blur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962520" y="6019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Image (2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dof2_blur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962520" y="60199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ther post-processing filte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6483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j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paration of RGB compon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mera im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mphasize contras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ften edg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llust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ge dete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le color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jector (RGB separation)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0.rgb : glare intensity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2.rgb : fadeout col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2.a   : fadeout fact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3.rgb : modulat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5,  </a:t>
            </a:r>
            <a:r>
              <a:rPr b="1" lang="ja-JP" sz="1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.0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0.0f, 0.0f,  0.0f // R mas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6,  0.0f, </a:t>
            </a:r>
            <a:r>
              <a:rPr b="1" lang="ja-JP" sz="1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.0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0.0f,  0.0f // G mas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7,  0.0f, 0.0f, </a:t>
            </a:r>
            <a:r>
              <a:rPr b="1" lang="ja-JP" sz="1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1.0f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 0.0f // B mas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(R jittered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(G jittered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(B jittered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generated gl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2438280"/>
            <a:ext cx="46483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// Sum up using RGB mas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xmma DISCARD.rgb, DISCARD.rgb, r0.rgb, t0, c5,  t1, c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mad r0.rgb,  t2, c7,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Add gl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mad r0, t3, c0,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Modulate and fade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xfc c2.a, c2, r0, ZERO, r0, c3, r0.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52578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Texcoords for t0,t1,t2 are jittered for RGB separation (Left/Center/Righ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jector (RGB separation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roject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4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3581280" y="6019920"/>
            <a:ext cx="426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mera image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25280" y="1800000"/>
            <a:ext cx="3089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  c4.rgb : gray scale coefficient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4,  0.30f, 0.59f, 0.11f,  0.0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blend factor for three image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5,  0.0f, 0.0f, 0.0f,  0.5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6,  0.0f, 0.0f, 0.0f,  0.333333333f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gl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Soften frame buffer edge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r0,  c5.a,  t1, t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r0,  c6.a,  t0, r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1905120"/>
            <a:ext cx="37339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Add gl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mad r0,  t3, c0, 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// Calculate lu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dp3 r1,  r0, c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// Emphasize contr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mul_x2  v0, r0, 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ahoma"/>
              </a:rPr>
              <a:t>lrp r0, r1,  r0, v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Modulate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mul_x2 r0,  r0, c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// Fade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xfc c2.a, c2, r0, ZERO, ZERO, ZERO, r0.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55627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ahoma"/>
              </a:rPr>
              <a:t>Texcoords for t0,t1,t2 are jittered for softening ed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mera imag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photo_00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69244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4" name="photo_01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5" name="photo_02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6" name="photo_03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269244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7" name="photo_05" descr=""/>
          <p:cNvPicPr/>
          <p:nvPr/>
        </p:nvPicPr>
        <p:blipFill>
          <a:blip r:embed="rId5"/>
          <a:stretch/>
        </p:blipFill>
        <p:spPr>
          <a:xfrm>
            <a:off x="6172200" y="38862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photo_06" descr=""/>
          <p:cNvPicPr/>
          <p:nvPr/>
        </p:nvPicPr>
        <p:blipFill>
          <a:blip r:embed="rId6"/>
          <a:stretch/>
        </p:blipFill>
        <p:spPr>
          <a:xfrm>
            <a:off x="3429000" y="3886200"/>
            <a:ext cx="266688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9" name=""/>
          <p:cNvSpPr/>
          <p:nvPr/>
        </p:nvSpPr>
        <p:spPr>
          <a:xfrm>
            <a:off x="4267080" y="5943600"/>
            <a:ext cx="487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l Combiners (1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2296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mma d0,d1,d2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*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2 = s0*s1 +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mmc d0,d1,d2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*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2 = (r0.a&gt;0.5) ? s2*s3 : s0*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dge Detection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Edge detection pixel shade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Up/Down/Left/Right jittered samp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R/G/B sub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0,  t0, t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1,  t2, t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Approximate absolute valu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dp3_x4 r0,  r0, r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dp3_x4 r1,  r1,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d_x4 r0, r1,  r0, r0,  r1,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complem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 r0, 1-r0, r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1 - r0 -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llustration Pixel Shad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876920" y="1752120"/>
            <a:ext cx="350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Edge detection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0,  t0, t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_x2 r1,  t2, t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d_x4 r0, r1,  r0, r0,  r1,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 r0, 1-r0, r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1 - r0 - r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Pale color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p3_x4 t1, t0, c4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t1.a,  c7.b,  1-ZERO, t1.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rp t0, c7.a, t0, t1.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ul_x2 r0, r0_bx2, t0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fc c2.a, c2, PROD, ZERO, r0, r0, r0.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90720" y="1752480"/>
            <a:ext cx="3619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Illustration pixel shade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ps.1.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2,  0.0f, 0.0f, 0.0f,  0.0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3,  0.0f, 0.0f, 0.0f,  0.5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4,  0.30f, 0.59f, 0.11f,  0.0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f c7,  0.0f, 0.0f, 0.5f,  0.75f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jittered sampling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0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1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2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x t3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// frame buffer (jittered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llustra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illustration_00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320040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87" name="illustration_01" descr=""/>
          <p:cNvPicPr/>
          <p:nvPr/>
        </p:nvPicPr>
        <p:blipFill>
          <a:blip r:embed="rId2"/>
          <a:stretch/>
        </p:blipFill>
        <p:spPr>
          <a:xfrm>
            <a:off x="5486400" y="1085760"/>
            <a:ext cx="320040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88" name="illustration_02" descr=""/>
          <p:cNvPicPr/>
          <p:nvPr/>
        </p:nvPicPr>
        <p:blipFill>
          <a:blip r:embed="rId3"/>
          <a:stretch/>
        </p:blipFill>
        <p:spPr>
          <a:xfrm>
            <a:off x="457200" y="2228760"/>
            <a:ext cx="4952880" cy="371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9" name=""/>
          <p:cNvSpPr/>
          <p:nvPr/>
        </p:nvSpPr>
        <p:spPr>
          <a:xfrm>
            <a:off x="4114800" y="6019920"/>
            <a:ext cx="4876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l Combiners (2)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d d0,d1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 dp3 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 dp3 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dm d0,d1, s0,s1,s2,s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0 = s0 dp3 s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1 = s2*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Combiner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xfc s0,s1,s2,s3, s4,s5, s6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output rgb = s0*s1 + (1-s0)*s2 + s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output alpha = s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nal combiner special input regis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D = s4*s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M = r0+v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G.a = fog fa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ke HDR and Glare filte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0005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7" name="0004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62520" y="60199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ages Copyright© 2002 BUNKASHA PUBLISHING CO.,LT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gh Dynamic Range (HDR) Render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y important in represen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al-world brightn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y bright scene cause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“Glare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4:27:01Z</dcterms:created>
  <dc:creator>川瀬 正樹</dc:creator>
  <dc:description/>
  <dc:language>en-US</dc:language>
  <cp:lastModifiedBy>川瀬 正樹</cp:lastModifiedBy>
  <dcterms:modified xsi:type="dcterms:W3CDTF">2003-03-17T04:20:58Z</dcterms:modified>
  <cp:revision>1942</cp:revision>
  <dc:subject/>
  <dc:title>DOUBLE-S.T.E.A.L.における リアルタイムCG表現技法</dc:title>
</cp:coreProperties>
</file>