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2.jpeg" ContentType="image/jpeg"/>
  <Override PartName="/ppt/media/image39.png" ContentType="image/png"/>
  <Override PartName="/ppt/media/image1.jpeg" ContentType="image/jpeg"/>
  <Override PartName="/ppt/media/image10.png" ContentType="image/png"/>
  <Override PartName="/ppt/media/image9.jpeg" ContentType="image/jpeg"/>
  <Override PartName="/ppt/media/image11.png" ContentType="image/png"/>
  <Override PartName="/ppt/media/image3.png" ContentType="image/png"/>
  <Override PartName="/ppt/media/image33.png" ContentType="image/png"/>
  <Override PartName="/ppt/media/image56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18.png" ContentType="image/png"/>
  <Override PartName="/ppt/media/image42.jpeg" ContentType="image/jpeg"/>
  <Override PartName="/ppt/media/image37.png" ContentType="image/png"/>
  <Override PartName="/ppt/media/image48.jpeg" ContentType="image/jpeg"/>
  <Override PartName="/ppt/media/image44.jpeg" ContentType="image/jpeg"/>
  <Override PartName="/ppt/media/image40.jpeg" ContentType="image/jpeg"/>
  <Override PartName="/ppt/media/image34.png" ContentType="image/png"/>
  <Override PartName="/ppt/media/image45.jpeg" ContentType="image/jpeg"/>
  <Override PartName="/ppt/media/image41.jpeg" ContentType="image/jpeg"/>
  <Override PartName="/ppt/media/image46.jpeg" ContentType="image/jpeg"/>
  <Override PartName="/ppt/media/image47.jpeg" ContentType="image/jpeg"/>
  <Override PartName="/ppt/media/image53.jpeg" ContentType="image/jpeg"/>
  <Override PartName="/ppt/media/image55.jpeg" ContentType="image/jpeg"/>
  <Override PartName="/ppt/media/image57.jpeg" ContentType="image/jpeg"/>
  <Override PartName="/ppt/media/image58.jpeg" ContentType="image/jpeg"/>
  <Override PartName="/ppt/media/image36.png" ContentType="image/png"/>
  <Override PartName="/ppt/media/image43.jpeg" ContentType="image/jpeg"/>
  <Override PartName="/ppt/media/image35.png" ContentType="image/png"/>
  <Override PartName="/ppt/media/image31.png" ContentType="image/png"/>
  <Override PartName="/ppt/media/image30.png" ContentType="image/png"/>
  <Override PartName="/ppt/media/image8.jpeg" ContentType="image/jpeg"/>
  <Override PartName="/ppt/media/image38.png" ContentType="image/png"/>
  <Override PartName="/ppt/media/image29.jpeg" ContentType="image/jpeg"/>
  <Override PartName="/ppt/media/image52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51.jpeg" ContentType="image/jpeg"/>
  <Override PartName="/ppt/media/image54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391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3984840"/>
            <a:ext cx="7391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7920" y="167652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398484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77920" y="398484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237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89480" y="1676520"/>
            <a:ext cx="237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8240" y="1676520"/>
            <a:ext cx="237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3984840"/>
            <a:ext cx="237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89480" y="3984840"/>
            <a:ext cx="237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8240" y="3984840"/>
            <a:ext cx="237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1676520"/>
            <a:ext cx="73911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391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3606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77920" y="1676520"/>
            <a:ext cx="3606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762120"/>
            <a:ext cx="7391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7920" y="1676520"/>
            <a:ext cx="3606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398484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3606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7920" y="167652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77920" y="398484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7920" y="167652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3984840"/>
            <a:ext cx="7391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676520"/>
            <a:ext cx="7391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771560" indent="-22860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771560" indent="-22860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clouds2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3" name="gdclogo" descr=""/>
          <p:cNvPicPr/>
          <p:nvPr/>
        </p:nvPicPr>
        <p:blipFill>
          <a:blip r:embed="rId3"/>
          <a:stretch/>
        </p:blipFill>
        <p:spPr>
          <a:xfrm>
            <a:off x="152280" y="6213600"/>
            <a:ext cx="2210040" cy="415800"/>
          </a:xfrm>
          <a:prstGeom prst="rect">
            <a:avLst/>
          </a:prstGeom>
          <a:ln w="0">
            <a:noFill/>
          </a:ln>
        </p:spPr>
      </p:pic>
      <p:pic>
        <p:nvPicPr>
          <p:cNvPr id="4" name="makebettergames" descr=""/>
          <p:cNvPicPr/>
          <p:nvPr/>
        </p:nvPicPr>
        <p:blipFill>
          <a:blip r:embed="rId4"/>
          <a:stretch/>
        </p:blipFill>
        <p:spPr>
          <a:xfrm>
            <a:off x="2590920" y="6318360"/>
            <a:ext cx="6400800" cy="29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unkasha-games.com/" TargetMode="External"/><Relationship Id="rId2" Type="http://schemas.openxmlformats.org/officeDocument/2006/relationships/hyperlink" Target="http://www.bunkasha-games.com/" TargetMode="External"/><Relationship Id="rId3" Type="http://schemas.openxmlformats.org/officeDocument/2006/relationships/hyperlink" Target="http://www.bunkasha-games.com/" TargetMode="External"/><Relationship Id="rId4" Type="http://schemas.openxmlformats.org/officeDocument/2006/relationships/hyperlink" Target="http://www.daionet.gr.jp/~masa/" TargetMode="External"/><Relationship Id="rId5" Type="http://schemas.openxmlformats.org/officeDocument/2006/relationships/hyperlink" Target="http://www.daionet.gr.jp/~masa/" TargetMode="External"/><Relationship Id="rId6" Type="http://schemas.openxmlformats.org/officeDocument/2006/relationships/hyperlink" Target="http://www.daionet.gr.jp/~masa/" TargetMode="External"/><Relationship Id="rId7" Type="http://schemas.openxmlformats.org/officeDocument/2006/relationships/hyperlink" Target="http://www.daionet.gr.jp/~masa/" TargetMode="External"/><Relationship Id="rId8" Type="http://schemas.openxmlformats.org/officeDocument/2006/relationships/hyperlink" Target="http://www.daionet.gr.jp/~masa/" TargetMode="External"/><Relationship Id="rId9" Type="http://schemas.openxmlformats.org/officeDocument/2006/relationships/hyperlink" Target="http://www.daionet.gr.jp/~masa/" TargetMode="External"/><Relationship Id="rId10" Type="http://schemas.openxmlformats.org/officeDocument/2006/relationships/hyperlink" Target="http://www.daionet.gr.jp/~masa/" TargetMode="External"/><Relationship Id="rId1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5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3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14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2.png"/><Relationship Id="rId4" Type="http://schemas.openxmlformats.org/officeDocument/2006/relationships/image" Target="../media/image34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5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rame Buffer Postprocessing Effects in DOUBLE-S.T.E.A.L (Wreckless)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81080" y="4114440"/>
            <a:ext cx="51818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lr oSVbN"/>
              </a:rPr>
              <a:t>Masaki Kawas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lr oSVbN"/>
              </a:rPr>
              <a:t>BUNKASHA GAM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lr oSVbN"/>
              </a:rPr>
              <a:t>BUNKASHA PUBLISHING CO.,LT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 u="sng">
                <a:solidFill>
                  <a:srgbClr val="93097c"/>
                </a:solidFill>
                <a:uFillTx/>
                <a:latin typeface="Tahoma"/>
                <a:ea typeface="ＭＳ Ｐゴシック"/>
                <a:hlinkClick r:id="rId1"/>
              </a:rPr>
              <a:t>http://www.</a:t>
            </a:r>
            <a:r>
              <a:rPr b="1" lang="ja-JP" sz="1200" spc="-1" strike="noStrike" u="sng">
                <a:solidFill>
                  <a:srgbClr val="93097c"/>
                </a:solidFill>
                <a:uFillTx/>
                <a:latin typeface="Tahoma"/>
                <a:ea typeface="ＭＳ Ｐゴシック"/>
                <a:hlinkClick r:id="rId2"/>
              </a:rPr>
              <a:t>bunkasha-games</a:t>
            </a:r>
            <a:r>
              <a:rPr b="1" lang="ja-JP" sz="1200" spc="-1" strike="noStrike" u="sng">
                <a:solidFill>
                  <a:srgbClr val="93097c"/>
                </a:solidFill>
                <a:uFillTx/>
                <a:latin typeface="Tahoma"/>
                <a:ea typeface="ＭＳ Ｐゴシック"/>
                <a:hlinkClick r:id="rId3"/>
              </a:rPr>
              <a:t>.com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 u="sng">
                <a:solidFill>
                  <a:srgbClr val="93097c"/>
                </a:solidFill>
                <a:uFillTx/>
                <a:latin typeface="Tahoma"/>
                <a:ea typeface="ＭＳ Ｐゴシック"/>
                <a:hlinkClick r:id="rId4"/>
              </a:rPr>
              <a:t>http://www.</a:t>
            </a:r>
            <a:r>
              <a:rPr b="1" lang="ja-JP" sz="1200" spc="-1" strike="noStrike" u="sng">
                <a:solidFill>
                  <a:srgbClr val="93097c"/>
                </a:solidFill>
                <a:uFillTx/>
                <a:latin typeface="Tahoma"/>
                <a:ea typeface="ＭＳ Ｐゴシック"/>
                <a:hlinkClick r:id="rId5"/>
              </a:rPr>
              <a:t>daionet</a:t>
            </a:r>
            <a:r>
              <a:rPr b="1" lang="ja-JP" sz="1200" spc="-1" strike="noStrike" u="sng">
                <a:solidFill>
                  <a:srgbClr val="93097c"/>
                </a:solidFill>
                <a:uFillTx/>
                <a:latin typeface="Tahoma"/>
                <a:ea typeface="ＭＳ Ｐゴシック"/>
                <a:hlinkClick r:id="rId6"/>
              </a:rPr>
              <a:t>.gr.</a:t>
            </a:r>
            <a:r>
              <a:rPr b="1" lang="ja-JP" sz="1200" spc="-1" strike="noStrike" u="sng">
                <a:solidFill>
                  <a:srgbClr val="93097c"/>
                </a:solidFill>
                <a:uFillTx/>
                <a:latin typeface="Tahoma"/>
                <a:ea typeface="ＭＳ Ｐゴシック"/>
                <a:hlinkClick r:id="rId7"/>
              </a:rPr>
              <a:t>jp</a:t>
            </a:r>
            <a:r>
              <a:rPr b="1" lang="ja-JP" sz="1200" spc="-1" strike="noStrike" u="sng">
                <a:solidFill>
                  <a:srgbClr val="93097c"/>
                </a:solidFill>
                <a:uFillTx/>
                <a:latin typeface="Tahoma"/>
                <a:ea typeface="ＭＳ Ｐゴシック"/>
                <a:hlinkClick r:id="rId8"/>
              </a:rPr>
              <a:t>/</a:t>
            </a:r>
            <a:r>
              <a:rPr b="1" lang="ja-JP" sz="1200" spc="-1" strike="noStrike" u="sng">
                <a:solidFill>
                  <a:srgbClr val="93097c"/>
                </a:solidFill>
                <a:uFillTx/>
                <a:latin typeface="Tahoma"/>
                <a:ea typeface="ＭＳ Ｐゴシック"/>
                <a:hlinkClick r:id="rId9"/>
              </a:rPr>
              <a:t>~masa</a:t>
            </a:r>
            <a:r>
              <a:rPr b="1" lang="ja-JP" sz="1200" spc="-1" strike="noStrike" u="sng">
                <a:solidFill>
                  <a:srgbClr val="93097c"/>
                </a:solidFill>
                <a:uFillTx/>
                <a:latin typeface="Tahoma"/>
                <a:ea typeface="ＭＳ Ｐゴシック"/>
                <a:hlinkClick r:id="rId10"/>
              </a:rPr>
              <a:t>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HDR Rendering Process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2017800"/>
            <a:ext cx="716292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nder scene with HD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Generate glare images from bright pixel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dd glare to Frame Buffe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HDR Scene Rendering with A8R8G8B8 Frame Buffer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7543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Glare effects need HD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se alpha channel as an additional information about pixel brightnes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nder scene with alpha chann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Output higher alpha values to bright pixel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lare-generation Process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" name="0003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2133360" cy="1600200"/>
          </a:xfrm>
          <a:prstGeom prst="rect">
            <a:avLst/>
          </a:prstGeom>
          <a:ln w="0">
            <a:noFill/>
          </a:ln>
        </p:spPr>
      </p:pic>
      <p:pic>
        <p:nvPicPr>
          <p:cNvPr id="67" name="0007" descr=""/>
          <p:cNvPicPr/>
          <p:nvPr/>
        </p:nvPicPr>
        <p:blipFill>
          <a:blip r:embed="rId2"/>
          <a:stretch/>
        </p:blipFill>
        <p:spPr>
          <a:xfrm>
            <a:off x="3048120" y="1828800"/>
            <a:ext cx="2133360" cy="1600200"/>
          </a:xfrm>
          <a:prstGeom prst="rect">
            <a:avLst/>
          </a:prstGeom>
          <a:ln w="0">
            <a:noFill/>
          </a:ln>
        </p:spPr>
      </p:pic>
      <p:pic>
        <p:nvPicPr>
          <p:cNvPr id="68" name="0004" descr=""/>
          <p:cNvPicPr/>
          <p:nvPr/>
        </p:nvPicPr>
        <p:blipFill>
          <a:blip r:embed="rId3"/>
          <a:stretch/>
        </p:blipFill>
        <p:spPr>
          <a:xfrm>
            <a:off x="3429000" y="38098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69" name="0008" descr=""/>
          <p:cNvPicPr/>
          <p:nvPr/>
        </p:nvPicPr>
        <p:blipFill>
          <a:blip r:embed="rId4"/>
          <a:stretch/>
        </p:blipFill>
        <p:spPr>
          <a:xfrm>
            <a:off x="762120" y="3809880"/>
            <a:ext cx="2133360" cy="1600200"/>
          </a:xfrm>
          <a:prstGeom prst="rect">
            <a:avLst/>
          </a:prstGeom>
          <a:ln w="0">
            <a:noFill/>
          </a:ln>
        </p:spPr>
      </p:pic>
      <p:pic>
        <p:nvPicPr>
          <p:cNvPr id="70" name="0006" descr=""/>
          <p:cNvPicPr/>
          <p:nvPr/>
        </p:nvPicPr>
        <p:blipFill>
          <a:blip r:embed="rId5"/>
          <a:stretch/>
        </p:blipFill>
        <p:spPr>
          <a:xfrm>
            <a:off x="6172200" y="160020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71" name="0005" descr=""/>
          <p:cNvPicPr/>
          <p:nvPr/>
        </p:nvPicPr>
        <p:blipFill>
          <a:blip r:embed="rId6"/>
          <a:stretch/>
        </p:blipFill>
        <p:spPr>
          <a:xfrm>
            <a:off x="6172200" y="3886200"/>
            <a:ext cx="2362320" cy="1771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895480" y="3505320"/>
            <a:ext cx="45720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3429000"/>
            <a:ext cx="0" cy="3808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2680" y="1371600"/>
            <a:ext cx="18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ame buf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64960" y="1371600"/>
            <a:ext cx="26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ame buffer alph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6000" y="5410080"/>
            <a:ext cx="20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nerate gl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56880" y="541008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nal im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76400" y="563868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nal im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3260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04200" y="4419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19080" y="1219320"/>
            <a:ext cx="18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ame buf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2520" y="60199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mages Copyright© 2002 BUNKASHA PUBLISHING CO.,LTD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lare filters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391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ownsample frame buffer to</a:t>
            </a:r>
            <a:br>
              <a:rPr sz="2800"/>
            </a:br>
            <a:r>
              <a:rPr b="1" lang="ja-JP" sz="28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¼ * ¼ (1/16) the siz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ixel brightness = </a:t>
            </a:r>
            <a:r>
              <a:rPr b="1" lang="ja-JP" sz="28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RGB * 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nerate glar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fterimag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loom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tar (light streak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host (not used in DOUBLE-S.T.E.A.L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fterimage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7391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pdate afterimag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Next afterimage =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revious frame afterimage * p +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urrent frame image * c – 1/255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: previous image weight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: current image weight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t’s not LERP (Linear intERPolation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p+c can be greater than 1.0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.g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8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 = 0.9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28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 = 0.25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Bias –1/255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revent dirty pixels from remain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loom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391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peatedly apply small b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ur filt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grace_blur0" descr=""/>
          <p:cNvPicPr/>
          <p:nvPr/>
        </p:nvPicPr>
        <p:blipFill>
          <a:blip r:embed="rId1"/>
          <a:stretch/>
        </p:blipFill>
        <p:spPr>
          <a:xfrm>
            <a:off x="5105520" y="20574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90" name="grace_blur2" descr=""/>
          <p:cNvPicPr/>
          <p:nvPr/>
        </p:nvPicPr>
        <p:blipFill>
          <a:blip r:embed="rId2"/>
          <a:stretch/>
        </p:blipFill>
        <p:spPr>
          <a:xfrm>
            <a:off x="4343400" y="41911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91" name="grace_blur1" descr=""/>
          <p:cNvPicPr/>
          <p:nvPr/>
        </p:nvPicPr>
        <p:blipFill>
          <a:blip r:embed="rId3"/>
          <a:stretch/>
        </p:blipFill>
        <p:spPr>
          <a:xfrm>
            <a:off x="1371600" y="2895480"/>
            <a:ext cx="2743200" cy="2057400"/>
          </a:xfrm>
          <a:prstGeom prst="rect">
            <a:avLst/>
          </a:prstGeom>
          <a:ln w="0">
            <a:noFill/>
          </a:ln>
        </p:spPr>
      </p:pic>
      <p:cxnSp>
        <p:nvCxnSpPr>
          <p:cNvPr id="92" name=""/>
          <p:cNvCxnSpPr>
            <a:stCxn id="89" idx="1"/>
            <a:endCxn id="91" idx="3"/>
          </p:cNvCxnSpPr>
          <p:nvPr/>
        </p:nvCxnSpPr>
        <p:spPr>
          <a:xfrm flipV="1" rot="10800000">
            <a:off x="4114080" y="3085920"/>
            <a:ext cx="991440" cy="838800"/>
          </a:xfrm>
          <a:prstGeom prst="bentConnector3">
            <a:avLst>
              <a:gd name="adj1" fmla="val 49981"/>
            </a:avLst>
          </a:prstGeom>
          <a:ln cap="sq" w="507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93" name=""/>
          <p:cNvCxnSpPr>
            <a:stCxn id="91" idx="2"/>
            <a:endCxn id="90" idx="1"/>
          </p:cNvCxnSpPr>
          <p:nvPr/>
        </p:nvCxnSpPr>
        <p:spPr>
          <a:xfrm flipH="1" rot="16200000">
            <a:off x="3409200" y="4285440"/>
            <a:ext cx="267120" cy="1600920"/>
          </a:xfrm>
          <a:prstGeom prst="bentConnector2">
            <a:avLst/>
          </a:prstGeom>
          <a:ln cap="sq" w="50760">
            <a:solidFill>
              <a:srgbClr val="000000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7391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loom filter (1</a:t>
            </a:r>
            <a:r>
              <a:rPr b="1" lang="en-US" sz="38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st</a:t>
            </a: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pass)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523880" y="2209680"/>
            <a:ext cx="2828880" cy="2895480"/>
            <a:chOff x="1523880" y="2209680"/>
            <a:chExt cx="2828880" cy="2895480"/>
          </a:xfrm>
        </p:grpSpPr>
        <p:sp>
          <p:nvSpPr>
            <p:cNvPr id="96" name=""/>
            <p:cNvSpPr/>
            <p:nvPr/>
          </p:nvSpPr>
          <p:spPr>
            <a:xfrm>
              <a:off x="2743200" y="3504960"/>
              <a:ext cx="380880" cy="3812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3880" y="2209680"/>
              <a:ext cx="2828880" cy="2895480"/>
              <a:chOff x="1523880" y="2209680"/>
              <a:chExt cx="2828880" cy="2895480"/>
            </a:xfrm>
          </p:grpSpPr>
          <p:sp>
            <p:nvSpPr>
              <p:cNvPr id="98" name=""/>
              <p:cNvSpPr/>
              <p:nvPr/>
            </p:nvSpPr>
            <p:spPr>
              <a:xfrm>
                <a:off x="1523880" y="2209680"/>
                <a:ext cx="2828880" cy="289548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523880" y="3219480"/>
                <a:ext cx="2828880" cy="1440"/>
              </a:xfrm>
              <a:prstGeom prst="line">
                <a:avLst/>
              </a:prstGeom>
              <a:ln cap="sq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23880" y="4162320"/>
                <a:ext cx="2828880" cy="1080"/>
              </a:xfrm>
              <a:prstGeom prst="line">
                <a:avLst/>
              </a:prstGeom>
              <a:ln cap="sq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466720" y="2209680"/>
                <a:ext cx="0" cy="2895480"/>
              </a:xfrm>
              <a:prstGeom prst="line">
                <a:avLst/>
              </a:prstGeom>
              <a:ln cap="sq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409920" y="2209680"/>
                <a:ext cx="1080" cy="2895480"/>
              </a:xfrm>
              <a:prstGeom prst="line">
                <a:avLst/>
              </a:prstGeom>
              <a:ln cap="sq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3200400" y="3047760"/>
              <a:ext cx="380880" cy="38124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86000" y="3047760"/>
              <a:ext cx="380880" cy="38124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86000" y="3962160"/>
              <a:ext cx="380880" cy="38124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200400" y="3962160"/>
              <a:ext cx="380880" cy="38124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838080" y="5715000"/>
            <a:ext cx="432000" cy="38088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56386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xture sampling p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724280" y="2209680"/>
            <a:ext cx="2971800" cy="2895480"/>
            <a:chOff x="4724280" y="2209680"/>
            <a:chExt cx="2971800" cy="2895480"/>
          </a:xfrm>
        </p:grpSpPr>
        <p:grpSp>
          <p:nvGrpSpPr>
            <p:cNvPr id="110" name=""/>
            <p:cNvGrpSpPr/>
            <p:nvPr/>
          </p:nvGrpSpPr>
          <p:grpSpPr>
            <a:xfrm>
              <a:off x="4724280" y="2209680"/>
              <a:ext cx="2828880" cy="2895480"/>
              <a:chOff x="4724280" y="2209680"/>
              <a:chExt cx="2828880" cy="2895480"/>
            </a:xfrm>
          </p:grpSpPr>
          <p:sp>
            <p:nvSpPr>
              <p:cNvPr id="111" name=""/>
              <p:cNvSpPr/>
              <p:nvPr/>
            </p:nvSpPr>
            <p:spPr>
              <a:xfrm>
                <a:off x="4724280" y="2209680"/>
                <a:ext cx="2828880" cy="289548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724280" y="3219480"/>
                <a:ext cx="2828880" cy="1440"/>
              </a:xfrm>
              <a:prstGeom prst="line">
                <a:avLst/>
              </a:prstGeom>
              <a:ln cap="sq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724280" y="4162320"/>
                <a:ext cx="2828880" cy="1080"/>
              </a:xfrm>
              <a:prstGeom prst="line">
                <a:avLst/>
              </a:prstGeom>
              <a:ln cap="sq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67120" y="2209680"/>
                <a:ext cx="0" cy="2895480"/>
              </a:xfrm>
              <a:prstGeom prst="line">
                <a:avLst/>
              </a:prstGeom>
              <a:ln cap="sq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610320" y="2209680"/>
                <a:ext cx="1080" cy="2895480"/>
              </a:xfrm>
              <a:prstGeom prst="line">
                <a:avLst/>
              </a:prstGeom>
              <a:ln cap="sq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724280" y="2514600"/>
              <a:ext cx="1066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1/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24280" y="4419360"/>
              <a:ext cx="1066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1/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629040" y="4419360"/>
              <a:ext cx="1067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1/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040" y="2514600"/>
              <a:ext cx="1067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1/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629040" y="3504960"/>
              <a:ext cx="1067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2/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38680" y="4419360"/>
              <a:ext cx="1066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2/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724280" y="3504960"/>
              <a:ext cx="1066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2/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38680" y="3504960"/>
              <a:ext cx="1066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4/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38680" y="2514600"/>
              <a:ext cx="1066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2/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838080" y="5181480"/>
            <a:ext cx="4267440" cy="457200"/>
            <a:chOff x="838080" y="5181480"/>
            <a:chExt cx="4267440" cy="457200"/>
          </a:xfrm>
        </p:grpSpPr>
        <p:sp>
          <p:nvSpPr>
            <p:cNvPr id="126" name=""/>
            <p:cNvSpPr/>
            <p:nvPr/>
          </p:nvSpPr>
          <p:spPr>
            <a:xfrm>
              <a:off x="838080" y="5257800"/>
              <a:ext cx="381240" cy="3808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95280" y="5181480"/>
              <a:ext cx="3810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ixel being Render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1252440" y="1676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p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loom filter (2</a:t>
            </a:r>
            <a:r>
              <a:rPr b="1" lang="en-US" sz="38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nd</a:t>
            </a: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, 3</a:t>
            </a:r>
            <a:r>
              <a:rPr b="1" lang="en-US" sz="38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rd</a:t>
            </a: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, … pass)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914400" y="2438280"/>
            <a:ext cx="2133720" cy="2286000"/>
            <a:chOff x="914400" y="2438280"/>
            <a:chExt cx="2133720" cy="2286000"/>
          </a:xfrm>
        </p:grpSpPr>
        <p:sp>
          <p:nvSpPr>
            <p:cNvPr id="131" name=""/>
            <p:cNvSpPr/>
            <p:nvPr/>
          </p:nvSpPr>
          <p:spPr>
            <a:xfrm>
              <a:off x="1891080" y="3520800"/>
              <a:ext cx="229680" cy="240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14400" y="2438280"/>
              <a:ext cx="2133720" cy="2286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14400" y="2919600"/>
              <a:ext cx="2133720" cy="1080"/>
            </a:xfrm>
            <a:prstGeom prst="line">
              <a:avLst/>
            </a:prstGeom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14400" y="3400560"/>
              <a:ext cx="2133720" cy="1080"/>
            </a:xfrm>
            <a:prstGeom prst="line">
              <a:avLst/>
            </a:prstGeom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374120" y="2438280"/>
              <a:ext cx="0" cy="2286000"/>
            </a:xfrm>
            <a:prstGeom prst="line">
              <a:avLst/>
            </a:prstGeom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76240" y="2438280"/>
              <a:ext cx="1080" cy="2286000"/>
            </a:xfrm>
            <a:prstGeom prst="line">
              <a:avLst/>
            </a:prstGeom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58920" y="2799000"/>
              <a:ext cx="229680" cy="2404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14400" y="3881880"/>
              <a:ext cx="2133720" cy="1080"/>
            </a:xfrm>
            <a:prstGeom prst="line">
              <a:avLst/>
            </a:prstGeom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14400" y="4303080"/>
              <a:ext cx="2133720" cy="1080"/>
            </a:xfrm>
            <a:prstGeom prst="line">
              <a:avLst/>
            </a:prstGeom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35960" y="2438280"/>
              <a:ext cx="0" cy="2286000"/>
            </a:xfrm>
            <a:prstGeom prst="line">
              <a:avLst/>
            </a:prstGeom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38440" y="2438280"/>
              <a:ext cx="1080" cy="2286000"/>
            </a:xfrm>
            <a:prstGeom prst="line">
              <a:avLst/>
            </a:prstGeom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23600" y="2799000"/>
              <a:ext cx="229680" cy="2404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58920" y="4182840"/>
              <a:ext cx="229680" cy="2401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23600" y="4182840"/>
              <a:ext cx="229680" cy="2401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257800" y="2362320"/>
            <a:ext cx="2514600" cy="2514600"/>
            <a:chOff x="5257800" y="2362320"/>
            <a:chExt cx="2514600" cy="2514600"/>
          </a:xfrm>
        </p:grpSpPr>
        <p:sp>
          <p:nvSpPr>
            <p:cNvPr id="146" name=""/>
            <p:cNvSpPr/>
            <p:nvPr/>
          </p:nvSpPr>
          <p:spPr>
            <a:xfrm>
              <a:off x="6407280" y="3511800"/>
              <a:ext cx="215280" cy="215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57800" y="2362320"/>
              <a:ext cx="2514600" cy="25146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57800" y="2721600"/>
              <a:ext cx="2514600" cy="1080"/>
            </a:xfrm>
            <a:prstGeom prst="line">
              <a:avLst/>
            </a:prstGeom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57800" y="3080520"/>
              <a:ext cx="2514600" cy="1080"/>
            </a:xfrm>
            <a:prstGeom prst="line">
              <a:avLst/>
            </a:prstGeom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17080" y="2362320"/>
              <a:ext cx="0" cy="2514600"/>
            </a:xfrm>
            <a:prstGeom prst="line">
              <a:avLst/>
            </a:prstGeom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76000" y="2362320"/>
              <a:ext cx="1080" cy="2514600"/>
            </a:xfrm>
            <a:prstGeom prst="line">
              <a:avLst/>
            </a:prstGeom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57800" y="3439800"/>
              <a:ext cx="2514600" cy="1440"/>
            </a:xfrm>
            <a:prstGeom prst="line">
              <a:avLst/>
            </a:prstGeom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35280" y="2362320"/>
              <a:ext cx="0" cy="2514600"/>
            </a:xfrm>
            <a:prstGeom prst="line">
              <a:avLst/>
            </a:prstGeom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4560" y="2362320"/>
              <a:ext cx="1080" cy="2514600"/>
            </a:xfrm>
            <a:prstGeom prst="line">
              <a:avLst/>
            </a:prstGeom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53840" y="2362320"/>
              <a:ext cx="1080" cy="2514600"/>
            </a:xfrm>
            <a:prstGeom prst="line">
              <a:avLst/>
            </a:prstGeom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12760" y="2362320"/>
              <a:ext cx="1440" cy="2514600"/>
            </a:xfrm>
            <a:prstGeom prst="line">
              <a:avLst/>
            </a:prstGeom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57800" y="3799080"/>
              <a:ext cx="2514600" cy="1080"/>
            </a:xfrm>
            <a:prstGeom prst="line">
              <a:avLst/>
            </a:prstGeom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57800" y="4158360"/>
              <a:ext cx="2514600" cy="1080"/>
            </a:xfrm>
            <a:prstGeom prst="line">
              <a:avLst/>
            </a:prstGeom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57800" y="4517280"/>
              <a:ext cx="2514600" cy="1440"/>
            </a:xfrm>
            <a:prstGeom prst="line">
              <a:avLst/>
            </a:prstGeom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269120" y="2649600"/>
              <a:ext cx="215280" cy="2152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545080" y="2649600"/>
              <a:ext cx="215280" cy="2152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45080" y="4373640"/>
              <a:ext cx="215280" cy="2152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69120" y="4373640"/>
              <a:ext cx="215280" cy="2152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798840" y="1828800"/>
            <a:ext cx="13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p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63040" y="182880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p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52680" y="3657600"/>
            <a:ext cx="1524240" cy="0"/>
          </a:xfrm>
          <a:prstGeom prst="line">
            <a:avLst/>
          </a:prstGeom>
          <a:ln cap="sq"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94760" y="5562720"/>
            <a:ext cx="52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peat as many times as you li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0640" y="4876920"/>
            <a:ext cx="3675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etTexture(0-3, 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</a:rPr>
              <a:t>st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</a:rPr>
              <a:t> render targe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) 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55120" y="5029200"/>
            <a:ext cx="3719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etTexture(0-3, 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</a:rPr>
              <a:t>nd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</a:rPr>
              <a:t> render targe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) 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tar (light streaks)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grace_star4" descr=""/>
          <p:cNvPicPr/>
          <p:nvPr/>
        </p:nvPicPr>
        <p:blipFill>
          <a:blip r:embed="rId1"/>
          <a:stretch/>
        </p:blipFill>
        <p:spPr>
          <a:xfrm>
            <a:off x="4800600" y="4419720"/>
            <a:ext cx="1752480" cy="1314360"/>
          </a:xfrm>
          <a:prstGeom prst="rect">
            <a:avLst/>
          </a:prstGeom>
          <a:ln w="0">
            <a:noFill/>
          </a:ln>
        </p:spPr>
      </p:pic>
      <p:pic>
        <p:nvPicPr>
          <p:cNvPr id="172" name="stpeters_star4" descr=""/>
          <p:cNvPicPr/>
          <p:nvPr/>
        </p:nvPicPr>
        <p:blipFill>
          <a:blip r:embed="rId2"/>
          <a:stretch/>
        </p:blipFill>
        <p:spPr>
          <a:xfrm>
            <a:off x="6858000" y="4419720"/>
            <a:ext cx="1752480" cy="131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" name=""/>
          <p:cNvGraphicFramePr/>
          <p:nvPr/>
        </p:nvGraphicFramePr>
        <p:xfrm>
          <a:off x="6858000" y="1981080"/>
          <a:ext cx="1752480" cy="131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1981080"/>
                    <a:ext cx="1752480" cy="13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800600" y="1981080"/>
          <a:ext cx="1752480" cy="131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1981080"/>
                    <a:ext cx="1752480" cy="13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5715000" y="3505320"/>
            <a:ext cx="0" cy="761760"/>
          </a:xfrm>
          <a:prstGeom prst="line">
            <a:avLst/>
          </a:prstGeom>
          <a:ln cap="sq"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5029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aused b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iffraction or refrac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f incoming ligh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ross fil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top (Diaphragm blade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7772400" y="3505320"/>
            <a:ext cx="0" cy="761760"/>
          </a:xfrm>
          <a:prstGeom prst="line">
            <a:avLst/>
          </a:prstGeom>
          <a:ln cap="sq"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ight streak (1</a:t>
            </a:r>
            <a:r>
              <a:rPr b="1" lang="en-US" sz="38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st</a:t>
            </a: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pass)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724280" y="2971800"/>
            <a:ext cx="3809520" cy="951840"/>
            <a:chOff x="4724280" y="2971800"/>
            <a:chExt cx="3809520" cy="951840"/>
          </a:xfrm>
        </p:grpSpPr>
        <p:grpSp>
          <p:nvGrpSpPr>
            <p:cNvPr id="182" name=""/>
            <p:cNvGrpSpPr/>
            <p:nvPr/>
          </p:nvGrpSpPr>
          <p:grpSpPr>
            <a:xfrm>
              <a:off x="4724280" y="2971800"/>
              <a:ext cx="3809520" cy="951840"/>
              <a:chOff x="4724280" y="2971800"/>
              <a:chExt cx="3809520" cy="951840"/>
            </a:xfrm>
          </p:grpSpPr>
          <p:sp>
            <p:nvSpPr>
              <p:cNvPr id="183" name=""/>
              <p:cNvSpPr/>
              <p:nvPr/>
            </p:nvSpPr>
            <p:spPr>
              <a:xfrm>
                <a:off x="4724280" y="2971800"/>
                <a:ext cx="3809520" cy="951840"/>
              </a:xfrm>
              <a:prstGeom prst="rect">
                <a:avLst/>
              </a:prstGeom>
              <a:noFill/>
              <a:ln cap="sq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629040" y="2971800"/>
                <a:ext cx="952200" cy="951840"/>
              </a:xfrm>
              <a:prstGeom prst="rect">
                <a:avLst/>
              </a:prstGeom>
              <a:noFill/>
              <a:ln cap="sq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676480" y="2971800"/>
                <a:ext cx="952200" cy="951840"/>
              </a:xfrm>
              <a:prstGeom prst="rect">
                <a:avLst/>
              </a:prstGeom>
              <a:noFill/>
              <a:ln cap="sq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7793280" y="3183480"/>
              <a:ext cx="528840" cy="52884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40720" y="3183480"/>
              <a:ext cx="528840" cy="52884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88160" y="3183480"/>
              <a:ext cx="528840" cy="52884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4829760" y="3077640"/>
              <a:ext cx="740520" cy="740520"/>
              <a:chOff x="4829760" y="3077640"/>
              <a:chExt cx="740520" cy="740520"/>
            </a:xfrm>
          </p:grpSpPr>
          <p:sp>
            <p:nvSpPr>
              <p:cNvPr id="190" name=""/>
              <p:cNvSpPr/>
              <p:nvPr/>
            </p:nvSpPr>
            <p:spPr>
              <a:xfrm>
                <a:off x="4829760" y="3077640"/>
                <a:ext cx="740520" cy="74052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935240" y="3183480"/>
                <a:ext cx="529560" cy="52848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coord[s] = rendering point + </a:t>
            </a:r>
            <a:r>
              <a:rPr b="1" lang="ja-JP" sz="24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s texel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lor weight[s] = </a:t>
            </a:r>
            <a:r>
              <a:rPr b="1" lang="ja-JP" sz="24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a^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4849200" y="396252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^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63600" y="396252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^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54320" y="396252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^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68720" y="396252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^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44320" y="3962520"/>
            <a:ext cx="14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ight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67600" y="548640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ahoma"/>
              </a:rPr>
              <a:t>4-pixel bl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2743200"/>
            <a:ext cx="41911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: attenuation(about ~0.9-0.95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: sampling (texture stage 0-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grace_star1" descr=""/>
          <p:cNvPicPr/>
          <p:nvPr/>
        </p:nvPicPr>
        <p:blipFill>
          <a:blip r:embed="rId1"/>
          <a:stretch/>
        </p:blipFill>
        <p:spPr>
          <a:xfrm>
            <a:off x="3276720" y="449568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919040" y="2514600"/>
            <a:ext cx="59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=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833440" y="2514600"/>
            <a:ext cx="59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=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23800" y="2514600"/>
            <a:ext cx="59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=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38200" y="2514600"/>
            <a:ext cx="59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=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oday’s Contents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391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Xbox DirectX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ake HDR and Glare filt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epth of Field (DOF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ost-processing image filt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ight streak (2</a:t>
            </a:r>
            <a:r>
              <a:rPr b="1" lang="ja-JP" sz="38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nd</a:t>
            </a:r>
            <a:r>
              <a:rPr b="1" lang="ja-JP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pass)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086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etTexture(s, </a:t>
            </a:r>
            <a:r>
              <a:rPr b="1" lang="ja-JP" sz="24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1</a:t>
            </a:r>
            <a:r>
              <a:rPr b="1" lang="ja-JP" sz="2400" spc="-1" strike="noStrike" baseline="30000">
                <a:solidFill>
                  <a:srgbClr val="ff0000"/>
                </a:solidFill>
                <a:latin typeface="Tahoma"/>
                <a:ea typeface="ＭＳ Ｐゴシック"/>
              </a:rPr>
              <a:t>st</a:t>
            </a:r>
            <a:r>
              <a:rPr b="1" lang="ja-JP" sz="24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 render target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 ;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coord[s] = 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ndering point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+ </a:t>
            </a:r>
            <a:r>
              <a:rPr b="1" lang="ja-JP" sz="24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4*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lor weight[s] = </a:t>
            </a:r>
            <a:r>
              <a:rPr b="1" lang="ja-JP" sz="24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a^(4*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676520" y="3503520"/>
            <a:ext cx="1600200" cy="389160"/>
            <a:chOff x="1676520" y="3503520"/>
            <a:chExt cx="1600200" cy="389160"/>
          </a:xfrm>
        </p:grpSpPr>
        <p:sp>
          <p:nvSpPr>
            <p:cNvPr id="208" name=""/>
            <p:cNvSpPr/>
            <p:nvPr/>
          </p:nvSpPr>
          <p:spPr>
            <a:xfrm>
              <a:off x="1676520" y="3503520"/>
              <a:ext cx="1600200" cy="389160"/>
            </a:xfrm>
            <a:prstGeom prst="rect">
              <a:avLst/>
            </a:prstGeom>
            <a:noFill/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476440" y="3503520"/>
              <a:ext cx="399960" cy="389160"/>
            </a:xfrm>
            <a:prstGeom prst="rect">
              <a:avLst/>
            </a:prstGeom>
            <a:noFill/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76480" y="3503520"/>
              <a:ext cx="399960" cy="389160"/>
            </a:xfrm>
            <a:prstGeom prst="rect">
              <a:avLst/>
            </a:prstGeom>
            <a:noFill/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2965320" y="3587760"/>
            <a:ext cx="222480" cy="216000"/>
          </a:xfrm>
          <a:prstGeom prst="ellipse">
            <a:avLst/>
          </a:prstGeom>
          <a:solidFill>
            <a:srgbClr val="ffc1c1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65360" y="3587760"/>
            <a:ext cx="222120" cy="216000"/>
          </a:xfrm>
          <a:prstGeom prst="ellipse">
            <a:avLst/>
          </a:prstGeom>
          <a:solidFill>
            <a:srgbClr val="ffc1c1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65400" y="3587760"/>
            <a:ext cx="222120" cy="216000"/>
          </a:xfrm>
          <a:prstGeom prst="ellipse">
            <a:avLst/>
          </a:prstGeom>
          <a:solidFill>
            <a:srgbClr val="ffc1c1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720800" y="3544920"/>
            <a:ext cx="311040" cy="303120"/>
            <a:chOff x="1720800" y="3544920"/>
            <a:chExt cx="311040" cy="303120"/>
          </a:xfrm>
        </p:grpSpPr>
        <p:sp>
          <p:nvSpPr>
            <p:cNvPr id="215" name=""/>
            <p:cNvSpPr/>
            <p:nvPr/>
          </p:nvSpPr>
          <p:spPr>
            <a:xfrm>
              <a:off x="1720800" y="3544920"/>
              <a:ext cx="311040" cy="303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65080" y="3588120"/>
              <a:ext cx="222480" cy="21636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352680" y="3503520"/>
            <a:ext cx="1600200" cy="389160"/>
            <a:chOff x="3352680" y="3503520"/>
            <a:chExt cx="1600200" cy="389160"/>
          </a:xfrm>
        </p:grpSpPr>
        <p:sp>
          <p:nvSpPr>
            <p:cNvPr id="218" name=""/>
            <p:cNvSpPr/>
            <p:nvPr/>
          </p:nvSpPr>
          <p:spPr>
            <a:xfrm>
              <a:off x="3352680" y="3503520"/>
              <a:ext cx="1600200" cy="389160"/>
            </a:xfrm>
            <a:prstGeom prst="rect">
              <a:avLst/>
            </a:prstGeom>
            <a:noFill/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52600" y="3503520"/>
              <a:ext cx="399960" cy="389160"/>
            </a:xfrm>
            <a:prstGeom prst="rect">
              <a:avLst/>
            </a:prstGeom>
            <a:noFill/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52640" y="3503520"/>
              <a:ext cx="399960" cy="389160"/>
            </a:xfrm>
            <a:prstGeom prst="rect">
              <a:avLst/>
            </a:prstGeom>
            <a:noFill/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4641840" y="3587760"/>
            <a:ext cx="222120" cy="216000"/>
          </a:xfrm>
          <a:prstGeom prst="ellipse">
            <a:avLst/>
          </a:prstGeom>
          <a:solidFill>
            <a:srgbClr val="ffc1c1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41880" y="3587760"/>
            <a:ext cx="222120" cy="216000"/>
          </a:xfrm>
          <a:prstGeom prst="ellipse">
            <a:avLst/>
          </a:prstGeom>
          <a:solidFill>
            <a:srgbClr val="ffc1c1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41920" y="3587760"/>
            <a:ext cx="222120" cy="216000"/>
          </a:xfrm>
          <a:prstGeom prst="ellipse">
            <a:avLst/>
          </a:prstGeom>
          <a:solidFill>
            <a:srgbClr val="ffc1c1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41600" y="3587760"/>
            <a:ext cx="222480" cy="2160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029200" y="3503520"/>
            <a:ext cx="1600200" cy="389160"/>
            <a:chOff x="5029200" y="3503520"/>
            <a:chExt cx="1600200" cy="389160"/>
          </a:xfrm>
        </p:grpSpPr>
        <p:sp>
          <p:nvSpPr>
            <p:cNvPr id="226" name=""/>
            <p:cNvSpPr/>
            <p:nvPr/>
          </p:nvSpPr>
          <p:spPr>
            <a:xfrm>
              <a:off x="5029200" y="3503520"/>
              <a:ext cx="1600200" cy="389160"/>
            </a:xfrm>
            <a:prstGeom prst="rect">
              <a:avLst/>
            </a:prstGeom>
            <a:noFill/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29120" y="3503520"/>
              <a:ext cx="399960" cy="389160"/>
            </a:xfrm>
            <a:prstGeom prst="rect">
              <a:avLst/>
            </a:prstGeom>
            <a:noFill/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29160" y="3503520"/>
              <a:ext cx="399960" cy="389160"/>
            </a:xfrm>
            <a:prstGeom prst="rect">
              <a:avLst/>
            </a:prstGeom>
            <a:noFill/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6318360" y="3587760"/>
            <a:ext cx="222120" cy="216000"/>
          </a:xfrm>
          <a:prstGeom prst="ellipse">
            <a:avLst/>
          </a:prstGeom>
          <a:solidFill>
            <a:srgbClr val="ffc1c1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18040" y="3587760"/>
            <a:ext cx="222480" cy="216000"/>
          </a:xfrm>
          <a:prstGeom prst="ellipse">
            <a:avLst/>
          </a:prstGeom>
          <a:solidFill>
            <a:srgbClr val="ffc1c1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18080" y="3587760"/>
            <a:ext cx="222480" cy="216000"/>
          </a:xfrm>
          <a:prstGeom prst="ellipse">
            <a:avLst/>
          </a:prstGeom>
          <a:solidFill>
            <a:srgbClr val="ffc1c1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18120" y="3587760"/>
            <a:ext cx="222120" cy="2160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705720" y="3503520"/>
            <a:ext cx="1600200" cy="389160"/>
            <a:chOff x="6705720" y="3503520"/>
            <a:chExt cx="1600200" cy="389160"/>
          </a:xfrm>
        </p:grpSpPr>
        <p:sp>
          <p:nvSpPr>
            <p:cNvPr id="234" name=""/>
            <p:cNvSpPr/>
            <p:nvPr/>
          </p:nvSpPr>
          <p:spPr>
            <a:xfrm>
              <a:off x="6705720" y="3503520"/>
              <a:ext cx="1600200" cy="389160"/>
            </a:xfrm>
            <a:prstGeom prst="rect">
              <a:avLst/>
            </a:prstGeom>
            <a:noFill/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05640" y="3503520"/>
              <a:ext cx="399960" cy="389160"/>
            </a:xfrm>
            <a:prstGeom prst="rect">
              <a:avLst/>
            </a:prstGeom>
            <a:noFill/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05680" y="3503520"/>
              <a:ext cx="399960" cy="389160"/>
            </a:xfrm>
            <a:prstGeom prst="rect">
              <a:avLst/>
            </a:prstGeom>
            <a:noFill/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7994520" y="3587760"/>
            <a:ext cx="222480" cy="216000"/>
          </a:xfrm>
          <a:prstGeom prst="ellipse">
            <a:avLst/>
          </a:prstGeom>
          <a:solidFill>
            <a:srgbClr val="ffc1c1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594560" y="3587760"/>
            <a:ext cx="222120" cy="216000"/>
          </a:xfrm>
          <a:prstGeom prst="ellipse">
            <a:avLst/>
          </a:prstGeom>
          <a:solidFill>
            <a:srgbClr val="ffc1c1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94600" y="3587760"/>
            <a:ext cx="222120" cy="216000"/>
          </a:xfrm>
          <a:prstGeom prst="ellipse">
            <a:avLst/>
          </a:prstGeom>
          <a:solidFill>
            <a:srgbClr val="ffc1c1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94640" y="3587760"/>
            <a:ext cx="222120" cy="2160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06000" y="396252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^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782520" y="396252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^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35000" y="396252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^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68600" y="396252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^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69000" y="396252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82240" y="5562720"/>
            <a:ext cx="20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ahoma"/>
              </a:rPr>
              <a:t>16-pixel bl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grace_star2" descr=""/>
          <p:cNvPicPr/>
          <p:nvPr/>
        </p:nvPicPr>
        <p:blipFill>
          <a:blip r:embed="rId1"/>
          <a:stretch/>
        </p:blipFill>
        <p:spPr>
          <a:xfrm>
            <a:off x="373392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2226600" y="3130560"/>
            <a:ext cx="59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=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84680" y="3130560"/>
            <a:ext cx="68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=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502960" y="3130560"/>
            <a:ext cx="59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=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79480" y="3130560"/>
            <a:ext cx="59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=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ight streak (n</a:t>
            </a:r>
            <a:r>
              <a:rPr b="1" lang="en-US" sz="38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th</a:t>
            </a: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pass)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5715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n</a:t>
            </a:r>
            <a:r>
              <a:rPr b="1" lang="ja-JP" sz="24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th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pas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etTexture(s, </a:t>
            </a:r>
            <a:r>
              <a:rPr b="1" lang="ja-JP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n-1</a:t>
            </a:r>
            <a:r>
              <a:rPr b="1" lang="ja-JP" sz="2000" spc="-1" strike="noStrike" baseline="30000">
                <a:solidFill>
                  <a:srgbClr val="ff0000"/>
                </a:solidFill>
                <a:latin typeface="Tahoma"/>
                <a:ea typeface="ＭＳ Ｐゴシック"/>
              </a:rPr>
              <a:t>th</a:t>
            </a:r>
            <a:r>
              <a:rPr b="1" lang="ja-JP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 render target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 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 = 4^(n-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coord[s] = rendering point + </a:t>
            </a:r>
            <a:r>
              <a:rPr b="1" lang="ja-JP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b*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lor weight[s] = </a:t>
            </a:r>
            <a:r>
              <a:rPr b="1" lang="ja-JP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a^(b*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odulate color for</a:t>
            </a:r>
            <a:br>
              <a:rPr sz="2400"/>
            </a:b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pectral dispers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4^n-pixel blu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n=2 or 3 for good resul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4" name="grace_star3" descr=""/>
          <p:cNvPicPr/>
          <p:nvPr/>
        </p:nvPicPr>
        <p:blipFill>
          <a:blip r:embed="rId1"/>
          <a:stretch/>
        </p:blipFill>
        <p:spPr>
          <a:xfrm>
            <a:off x="6172200" y="4267080"/>
            <a:ext cx="2565360" cy="1924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6505920" y="3505320"/>
            <a:ext cx="175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rd pa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4-pixel bl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peat the above process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7" name="grace_star1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1752840" cy="1314360"/>
          </a:xfrm>
          <a:prstGeom prst="rect">
            <a:avLst/>
          </a:prstGeom>
          <a:ln w="0">
            <a:noFill/>
          </a:ln>
        </p:spPr>
      </p:pic>
      <p:pic>
        <p:nvPicPr>
          <p:cNvPr id="258" name="grace_star2" descr=""/>
          <p:cNvPicPr/>
          <p:nvPr/>
        </p:nvPicPr>
        <p:blipFill>
          <a:blip r:embed="rId2"/>
          <a:stretch/>
        </p:blipFill>
        <p:spPr>
          <a:xfrm>
            <a:off x="2209680" y="2819520"/>
            <a:ext cx="1752840" cy="1314360"/>
          </a:xfrm>
          <a:prstGeom prst="rect">
            <a:avLst/>
          </a:prstGeom>
          <a:ln w="0">
            <a:noFill/>
          </a:ln>
        </p:spPr>
      </p:pic>
      <p:pic>
        <p:nvPicPr>
          <p:cNvPr id="259" name="grace_star3" descr=""/>
          <p:cNvPicPr/>
          <p:nvPr/>
        </p:nvPicPr>
        <p:blipFill>
          <a:blip r:embed="rId3"/>
          <a:stretch/>
        </p:blipFill>
        <p:spPr>
          <a:xfrm>
            <a:off x="4038480" y="2819520"/>
            <a:ext cx="1752840" cy="1314360"/>
          </a:xfrm>
          <a:prstGeom prst="rect">
            <a:avLst/>
          </a:prstGeom>
          <a:ln w="0">
            <a:noFill/>
          </a:ln>
        </p:spPr>
      </p:pic>
      <p:pic>
        <p:nvPicPr>
          <p:cNvPr id="260" name="grace_star4" descr=""/>
          <p:cNvPicPr/>
          <p:nvPr/>
        </p:nvPicPr>
        <p:blipFill>
          <a:blip r:embed="rId4"/>
          <a:stretch/>
        </p:blipFill>
        <p:spPr>
          <a:xfrm>
            <a:off x="7086600" y="2819520"/>
            <a:ext cx="1752480" cy="1314360"/>
          </a:xfrm>
          <a:prstGeom prst="rect">
            <a:avLst/>
          </a:prstGeom>
          <a:ln w="0">
            <a:noFill/>
          </a:ln>
        </p:spPr>
      </p:pic>
      <p:pic>
        <p:nvPicPr>
          <p:cNvPr id="261" name="stpeters_star1" descr=""/>
          <p:cNvPicPr/>
          <p:nvPr/>
        </p:nvPicPr>
        <p:blipFill>
          <a:blip r:embed="rId5"/>
          <a:stretch/>
        </p:blipFill>
        <p:spPr>
          <a:xfrm>
            <a:off x="380880" y="4343400"/>
            <a:ext cx="1752840" cy="1314360"/>
          </a:xfrm>
          <a:prstGeom prst="rect">
            <a:avLst/>
          </a:prstGeom>
          <a:ln w="0">
            <a:noFill/>
          </a:ln>
        </p:spPr>
      </p:pic>
      <p:pic>
        <p:nvPicPr>
          <p:cNvPr id="262" name="stpeters_star2" descr=""/>
          <p:cNvPicPr/>
          <p:nvPr/>
        </p:nvPicPr>
        <p:blipFill>
          <a:blip r:embed="rId6"/>
          <a:stretch/>
        </p:blipFill>
        <p:spPr>
          <a:xfrm>
            <a:off x="2209680" y="4343400"/>
            <a:ext cx="1752840" cy="1314360"/>
          </a:xfrm>
          <a:prstGeom prst="rect">
            <a:avLst/>
          </a:prstGeom>
          <a:ln w="0">
            <a:noFill/>
          </a:ln>
        </p:spPr>
      </p:pic>
      <p:pic>
        <p:nvPicPr>
          <p:cNvPr id="263" name="stpeters_star4" descr=""/>
          <p:cNvPicPr/>
          <p:nvPr/>
        </p:nvPicPr>
        <p:blipFill>
          <a:blip r:embed="rId7"/>
          <a:stretch/>
        </p:blipFill>
        <p:spPr>
          <a:xfrm>
            <a:off x="7086600" y="4343400"/>
            <a:ext cx="1752480" cy="1314360"/>
          </a:xfrm>
          <a:prstGeom prst="rect">
            <a:avLst/>
          </a:prstGeom>
          <a:ln w="0">
            <a:noFill/>
          </a:ln>
        </p:spPr>
      </p:pic>
      <p:pic>
        <p:nvPicPr>
          <p:cNvPr id="264" name="stpeters_star3" descr=""/>
          <p:cNvPicPr/>
          <p:nvPr/>
        </p:nvPicPr>
        <p:blipFill>
          <a:blip r:embed="rId8"/>
          <a:stretch/>
        </p:blipFill>
        <p:spPr>
          <a:xfrm>
            <a:off x="4038480" y="4343400"/>
            <a:ext cx="1752840" cy="13143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214520" y="2438280"/>
            <a:ext cx="112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pa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64200" y="2438280"/>
            <a:ext cx="11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pa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4320" y="2438280"/>
            <a:ext cx="109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pa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38680" y="23623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x4 dir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19920" y="3429000"/>
            <a:ext cx="91440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26400" y="563868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 pix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86800" y="5638680"/>
            <a:ext cx="12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16 pix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215600" y="5638680"/>
            <a:ext cx="12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64 pix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30520" y="563868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64*4 pix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556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2, 4, 6 or 8 directio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6019920" y="4952880"/>
            <a:ext cx="91440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flare_build" descr=""/>
          <p:cNvPicPr/>
          <p:nvPr/>
        </p:nvPicPr>
        <p:blipFill>
          <a:blip r:embed="rId1"/>
          <a:stretch/>
        </p:blipFill>
        <p:spPr>
          <a:xfrm>
            <a:off x="5391000" y="42670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277" name="flare_00" descr=""/>
          <p:cNvPicPr/>
          <p:nvPr/>
        </p:nvPicPr>
        <p:blipFill>
          <a:blip r:embed="rId2"/>
          <a:stretch/>
        </p:blipFill>
        <p:spPr>
          <a:xfrm>
            <a:off x="1200240" y="346716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278" name="flare_build4" descr=""/>
          <p:cNvPicPr/>
          <p:nvPr/>
        </p:nvPicPr>
        <p:blipFill>
          <a:blip r:embed="rId3"/>
          <a:stretch/>
        </p:blipFill>
        <p:spPr>
          <a:xfrm>
            <a:off x="5410080" y="152280"/>
            <a:ext cx="3029040" cy="4038840"/>
          </a:xfrm>
          <a:prstGeom prst="rect">
            <a:avLst/>
          </a:prstGeom>
          <a:ln w="0">
            <a:noFill/>
          </a:ln>
        </p:spPr>
      </p:pic>
      <p:pic>
        <p:nvPicPr>
          <p:cNvPr id="279" name="flare_06" descr=""/>
          <p:cNvPicPr/>
          <p:nvPr/>
        </p:nvPicPr>
        <p:blipFill>
          <a:blip r:embed="rId4"/>
          <a:stretch/>
        </p:blipFill>
        <p:spPr>
          <a:xfrm>
            <a:off x="1200240" y="285840"/>
            <a:ext cx="4114800" cy="30859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3886200" y="6553080"/>
            <a:ext cx="4876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mages Copyright© 2002 BUNKASHA PUBLISHING CO.,LTD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flare_05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282" name="flare_04" descr=""/>
          <p:cNvPicPr/>
          <p:nvPr/>
        </p:nvPicPr>
        <p:blipFill>
          <a:blip r:embed="rId2"/>
          <a:stretch/>
        </p:blipFill>
        <p:spPr>
          <a:xfrm>
            <a:off x="914400" y="3276720"/>
            <a:ext cx="3733920" cy="2800080"/>
          </a:xfrm>
          <a:prstGeom prst="rect">
            <a:avLst/>
          </a:prstGeom>
          <a:ln w="0">
            <a:noFill/>
          </a:ln>
        </p:spPr>
      </p:pic>
      <p:pic>
        <p:nvPicPr>
          <p:cNvPr id="283" name="flare_02" descr=""/>
          <p:cNvPicPr/>
          <p:nvPr/>
        </p:nvPicPr>
        <p:blipFill>
          <a:blip r:embed="rId3"/>
          <a:stretch/>
        </p:blipFill>
        <p:spPr>
          <a:xfrm>
            <a:off x="4724280" y="38088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284" name="flare_03" descr=""/>
          <p:cNvPicPr/>
          <p:nvPr/>
        </p:nvPicPr>
        <p:blipFill>
          <a:blip r:embed="rId4"/>
          <a:stretch/>
        </p:blipFill>
        <p:spPr>
          <a:xfrm>
            <a:off x="4724280" y="3276720"/>
            <a:ext cx="3733920" cy="28000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962520" y="6095880"/>
            <a:ext cx="4876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mages Copyright© 2001 BUNKASHA PUBLISHING CO.,LTD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host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not used in DOUBLE-S.T.E.A.L)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7" name="_038" descr=""/>
          <p:cNvPicPr/>
          <p:nvPr/>
        </p:nvPicPr>
        <p:blipFill>
          <a:blip r:embed="rId1"/>
          <a:stretch/>
        </p:blipFill>
        <p:spPr>
          <a:xfrm>
            <a:off x="4267080" y="251460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35049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aus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nternal reflections inside the lens system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caling about the screen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360" y="83772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caling about the screen center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7391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coord = (original texcoord - 0.5) * s + 0.5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:  An arbitrary scaling fact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1" name="grace_blur1" descr=""/>
          <p:cNvPicPr/>
          <p:nvPr/>
        </p:nvPicPr>
        <p:blipFill>
          <a:blip r:embed="rId1"/>
          <a:stretch/>
        </p:blipFill>
        <p:spPr>
          <a:xfrm>
            <a:off x="1371600" y="396252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143000" y="35053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0,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76720" y="35053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1,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76720" y="579132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1,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66680" y="57913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0,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62520" y="457200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caling 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 = -2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grace_blur1_rscale" descr=""/>
          <p:cNvPicPr/>
          <p:nvPr/>
        </p:nvPicPr>
        <p:blipFill>
          <a:blip r:embed="rId2"/>
          <a:stretch/>
        </p:blipFill>
        <p:spPr>
          <a:xfrm>
            <a:off x="5791320" y="396252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038480" y="5334120"/>
            <a:ext cx="1600200" cy="0"/>
          </a:xfrm>
          <a:prstGeom prst="line">
            <a:avLst/>
          </a:prstGeom>
          <a:ln cap="sq"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57800" y="35053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-0.5,-0.5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238880" y="35053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1.5,-0,5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38880" y="57913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1.5,1.5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34120" y="57913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-0.5,1.5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11160" y="3200400"/>
            <a:ext cx="24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original texco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88680" y="320040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scaled texco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06560" y="2743200"/>
            <a:ext cx="289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.g. scaling by s = -2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host (1</a:t>
            </a:r>
            <a:r>
              <a:rPr b="1" lang="en-US" sz="38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st</a:t>
            </a: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pass)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ask the source images with a smooth circ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o prevent rectangular edg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8" name="circletrim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1295280" cy="990720"/>
          </a:xfrm>
          <a:prstGeom prst="rect">
            <a:avLst/>
          </a:prstGeom>
          <a:ln w="0">
            <a:noFill/>
          </a:ln>
        </p:spPr>
      </p:pic>
      <p:pic>
        <p:nvPicPr>
          <p:cNvPr id="309" name="grace_ghost1" descr=""/>
          <p:cNvPicPr/>
          <p:nvPr/>
        </p:nvPicPr>
        <p:blipFill>
          <a:blip r:embed="rId2"/>
          <a:stretch/>
        </p:blipFill>
        <p:spPr>
          <a:xfrm>
            <a:off x="3733920" y="4648320"/>
            <a:ext cx="2031840" cy="1523880"/>
          </a:xfrm>
          <a:prstGeom prst="rect">
            <a:avLst/>
          </a:prstGeom>
          <a:ln w="0">
            <a:noFill/>
          </a:ln>
        </p:spPr>
      </p:pic>
      <p:pic>
        <p:nvPicPr>
          <p:cNvPr id="310" name="grace_blur1" descr=""/>
          <p:cNvPicPr/>
          <p:nvPr/>
        </p:nvPicPr>
        <p:blipFill>
          <a:blip r:embed="rId3"/>
          <a:stretch/>
        </p:blipFill>
        <p:spPr>
          <a:xfrm>
            <a:off x="1447920" y="289548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311" name="grace_blur3" descr=""/>
          <p:cNvPicPr/>
          <p:nvPr/>
        </p:nvPicPr>
        <p:blipFill>
          <a:blip r:embed="rId4"/>
          <a:stretch/>
        </p:blipFill>
        <p:spPr>
          <a:xfrm>
            <a:off x="5105520" y="289548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312" name="circletrim" descr=""/>
          <p:cNvPicPr/>
          <p:nvPr/>
        </p:nvPicPr>
        <p:blipFill>
          <a:blip r:embed="rId5"/>
          <a:stretch/>
        </p:blipFill>
        <p:spPr>
          <a:xfrm>
            <a:off x="6705720" y="2895480"/>
            <a:ext cx="1295280" cy="9907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756520" y="3200400"/>
            <a:ext cx="3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414120" y="3200400"/>
            <a:ext cx="3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133720" y="39625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ca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867280" y="39625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ca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724280" y="3657600"/>
            <a:ext cx="0" cy="838080"/>
          </a:xfrm>
          <a:prstGeom prst="line">
            <a:avLst/>
          </a:prstGeom>
          <a:ln cap="sq"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528440" y="3200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host (2</a:t>
            </a:r>
            <a:r>
              <a:rPr b="1" lang="en-US" sz="38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nd </a:t>
            </a: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nd</a:t>
            </a:r>
            <a:r>
              <a:rPr b="1" lang="en-US" sz="38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3</a:t>
            </a:r>
            <a:r>
              <a:rPr b="1" lang="en-US" sz="38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rd</a:t>
            </a: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passes)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7010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ulti-tap scaling and color modul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1" name="grace_ghost1" descr=""/>
          <p:cNvPicPr/>
          <p:nvPr/>
        </p:nvPicPr>
        <p:blipFill>
          <a:blip r:embed="rId1"/>
          <a:stretch/>
        </p:blipFill>
        <p:spPr>
          <a:xfrm>
            <a:off x="1905120" y="2438280"/>
            <a:ext cx="1295280" cy="9716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80520" y="4038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grace_ghost2" descr=""/>
          <p:cNvPicPr/>
          <p:nvPr/>
        </p:nvPicPr>
        <p:blipFill>
          <a:blip r:embed="rId2"/>
          <a:stretch/>
        </p:blipFill>
        <p:spPr>
          <a:xfrm>
            <a:off x="2209680" y="4724280"/>
            <a:ext cx="2032200" cy="1524240"/>
          </a:xfrm>
          <a:prstGeom prst="rect">
            <a:avLst/>
          </a:prstGeom>
          <a:ln w="0">
            <a:noFill/>
          </a:ln>
        </p:spPr>
      </p:pic>
      <p:pic>
        <p:nvPicPr>
          <p:cNvPr id="324" name="grace_ghost1" descr=""/>
          <p:cNvPicPr/>
          <p:nvPr/>
        </p:nvPicPr>
        <p:blipFill>
          <a:blip r:embed="rId3"/>
          <a:stretch/>
        </p:blipFill>
        <p:spPr>
          <a:xfrm>
            <a:off x="3657600" y="243828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325" name="grace_ghost1" descr=""/>
          <p:cNvPicPr/>
          <p:nvPr/>
        </p:nvPicPr>
        <p:blipFill>
          <a:blip r:embed="rId4"/>
          <a:stretch/>
        </p:blipFill>
        <p:spPr>
          <a:xfrm>
            <a:off x="5410080" y="2438280"/>
            <a:ext cx="1295640" cy="971640"/>
          </a:xfrm>
          <a:prstGeom prst="rect">
            <a:avLst/>
          </a:prstGeom>
          <a:ln w="0">
            <a:noFill/>
          </a:ln>
        </p:spPr>
      </p:pic>
      <p:pic>
        <p:nvPicPr>
          <p:cNvPr id="326" name="grace_ghost1" descr=""/>
          <p:cNvPicPr/>
          <p:nvPr/>
        </p:nvPicPr>
        <p:blipFill>
          <a:blip r:embed="rId5"/>
          <a:stretch/>
        </p:blipFill>
        <p:spPr>
          <a:xfrm>
            <a:off x="7162920" y="2438280"/>
            <a:ext cx="1295280" cy="971640"/>
          </a:xfrm>
          <a:prstGeom prst="rect">
            <a:avLst/>
          </a:prstGeom>
          <a:ln w="0">
            <a:noFill/>
          </a:ln>
        </p:spPr>
      </p:pic>
      <p:cxnSp>
        <p:nvCxnSpPr>
          <p:cNvPr id="327" name=""/>
          <p:cNvCxnSpPr>
            <a:stCxn id="321" idx="2"/>
            <a:endCxn id="322" idx="1"/>
          </p:cNvCxnSpPr>
          <p:nvPr/>
        </p:nvCxnSpPr>
        <p:spPr>
          <a:xfrm flipH="1" rot="16200000">
            <a:off x="2386800" y="3575520"/>
            <a:ext cx="828000" cy="496080"/>
          </a:xfrm>
          <a:prstGeom prst="bentConnector2">
            <a:avLst/>
          </a:prstGeom>
          <a:ln cap="sq" w="507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328" name=""/>
          <p:cNvCxnSpPr>
            <a:stCxn id="324" idx="2"/>
            <a:endCxn id="322" idx="3"/>
          </p:cNvCxnSpPr>
          <p:nvPr/>
        </p:nvCxnSpPr>
        <p:spPr>
          <a:xfrm rot="5400000">
            <a:off x="3458160" y="3390840"/>
            <a:ext cx="828000" cy="865800"/>
          </a:xfrm>
          <a:prstGeom prst="bentConnector2">
            <a:avLst/>
          </a:prstGeom>
          <a:ln cap="sq" w="507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329" name=""/>
          <p:cNvCxnSpPr>
            <a:stCxn id="325" idx="2"/>
            <a:endCxn id="322" idx="3"/>
          </p:cNvCxnSpPr>
          <p:nvPr/>
        </p:nvCxnSpPr>
        <p:spPr>
          <a:xfrm rot="5400000">
            <a:off x="4335120" y="2514600"/>
            <a:ext cx="828000" cy="2618280"/>
          </a:xfrm>
          <a:prstGeom prst="bentConnector2">
            <a:avLst/>
          </a:prstGeom>
          <a:ln cap="sq" w="507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330" name=""/>
          <p:cNvCxnSpPr>
            <a:stCxn id="326" idx="2"/>
            <a:endCxn id="322" idx="3"/>
          </p:cNvCxnSpPr>
          <p:nvPr/>
        </p:nvCxnSpPr>
        <p:spPr>
          <a:xfrm rot="5400000">
            <a:off x="5211000" y="1638360"/>
            <a:ext cx="828000" cy="4371120"/>
          </a:xfrm>
          <a:prstGeom prst="bentConnector2">
            <a:avLst/>
          </a:prstGeom>
          <a:ln cap="sq" w="507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31" name=""/>
          <p:cNvSpPr/>
          <p:nvPr/>
        </p:nvSpPr>
        <p:spPr>
          <a:xfrm>
            <a:off x="1828800" y="3581280"/>
            <a:ext cx="6705720" cy="39888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caling and color mod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2" name="grace_ghost3" descr=""/>
          <p:cNvPicPr/>
          <p:nvPr/>
        </p:nvPicPr>
        <p:blipFill>
          <a:blip r:embed="rId6"/>
          <a:stretch/>
        </p:blipFill>
        <p:spPr>
          <a:xfrm>
            <a:off x="5867280" y="4724280"/>
            <a:ext cx="2057400" cy="1543320"/>
          </a:xfrm>
          <a:prstGeom prst="rect">
            <a:avLst/>
          </a:prstGeom>
          <a:ln w="0">
            <a:noFill/>
          </a:ln>
        </p:spPr>
      </p:pic>
      <p:cxnSp>
        <p:nvCxnSpPr>
          <p:cNvPr id="333" name=""/>
          <p:cNvCxnSpPr>
            <a:stCxn id="322" idx="2"/>
            <a:endCxn id="323" idx="0"/>
          </p:cNvCxnSpPr>
          <p:nvPr/>
        </p:nvCxnSpPr>
        <p:spPr>
          <a:xfrm flipH="1">
            <a:off x="3225600" y="4435560"/>
            <a:ext cx="19440" cy="289440"/>
          </a:xfrm>
          <a:prstGeom prst="straightConnector1">
            <a:avLst/>
          </a:prstGeom>
          <a:ln cap="sq" w="507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334" name=""/>
          <p:cNvCxnSpPr>
            <a:stCxn id="323" idx="1"/>
            <a:endCxn id="321" idx="0"/>
          </p:cNvCxnSpPr>
          <p:nvPr/>
        </p:nvCxnSpPr>
        <p:spPr>
          <a:xfrm flipH="1" rot="10800000">
            <a:off x="2208600" y="2437560"/>
            <a:ext cx="343800" cy="3048840"/>
          </a:xfrm>
          <a:prstGeom prst="bentConnector4">
            <a:avLst>
              <a:gd name="adj1" fmla="val -266666"/>
              <a:gd name="adj2" fmla="val 107498"/>
            </a:avLst>
          </a:prstGeom>
          <a:ln w="5076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335" name=""/>
          <p:cNvSpPr/>
          <p:nvPr/>
        </p:nvSpPr>
        <p:spPr>
          <a:xfrm>
            <a:off x="4343400" y="5943600"/>
            <a:ext cx="144792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5000" y="43434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nal ghost im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lare Effects in DirectX9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High-Precision buffer forma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True HDR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frame buff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ore complex pixel operatio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orgeous glare effec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till too expensive for gam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ill hopefully be of practical use in the near futu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Xbox DirectX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Xbox DirectX Extension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ame as GeForce3 OpenGL Extensio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ture shad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gister combine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hadow mapp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apability to typecast resourc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se D3DFMT_D2S8 depth-buffer as a 3DFMT_A8R8G8B8 text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nder to a Vertex Buff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_014" descr=""/>
          <p:cNvPicPr/>
          <p:nvPr/>
        </p:nvPicPr>
        <p:blipFill>
          <a:blip r:embed="rId1"/>
          <a:stretch/>
        </p:blipFill>
        <p:spPr>
          <a:xfrm>
            <a:off x="2666880" y="327672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340" name="_026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341" name="_024" descr=""/>
          <p:cNvPicPr/>
          <p:nvPr/>
        </p:nvPicPr>
        <p:blipFill>
          <a:blip r:embed="rId3"/>
          <a:stretch/>
        </p:blipFill>
        <p:spPr>
          <a:xfrm>
            <a:off x="4572000" y="380880"/>
            <a:ext cx="41911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epth of Field (DOF)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3" name="dof_blur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6172200" cy="462924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3962520" y="60199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pyright© 2002 BUNKASHA PUBLISHING CO.,LTD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OF Process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se depth buff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W buffer in DOUBLE-S.T.E.A.L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nerate blurred frame buff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an be smaller than the frame buffe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ut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don’t use box filter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to resiz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ulti-tap blur filter is recommende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alculate screen-space blurriness based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 buffer and focal distance per pix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lend the blurred image and the frame buffer based on the blurrines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ook up screen-space blurriness from W buffer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79246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alculating screen-space blurriness per pixel is a bit complex ope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irectly look up blurriness from W valu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1D look-up textur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8-bit table for mapping the W value to blurrines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alculate blurriness for each W value by CPU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8 bits : 256 elements per fram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ookup screen-space blurriness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876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ample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D24S8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W value as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A8R8G8B8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ture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an get the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highest 8 bits of depth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component as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8-bit alph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by typecast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se dependent texture read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“texreg2ar”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reg2ar” uses alpha and red components of another texture as the current texture coordinates (u,v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486400" y="2133720"/>
            <a:ext cx="2971800" cy="1389600"/>
            <a:chOff x="5486400" y="2133720"/>
            <a:chExt cx="2971800" cy="1389600"/>
          </a:xfrm>
        </p:grpSpPr>
        <p:sp>
          <p:nvSpPr>
            <p:cNvPr id="352" name=""/>
            <p:cNvSpPr/>
            <p:nvPr/>
          </p:nvSpPr>
          <p:spPr>
            <a:xfrm>
              <a:off x="5562720" y="312444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A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324840" y="312444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010640" y="312444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G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12444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B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62720" y="25909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typecas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34320" y="2667240"/>
              <a:ext cx="0" cy="380880"/>
            </a:xfrm>
            <a:prstGeom prst="line">
              <a:avLst/>
            </a:prstGeom>
            <a:ln cap="sq" w="507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019920" y="213372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D2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772400" y="213372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5486400" y="2133720"/>
              <a:ext cx="2971800" cy="380880"/>
              <a:chOff x="5486400" y="2133720"/>
              <a:chExt cx="2971800" cy="380880"/>
            </a:xfrm>
          </p:grpSpPr>
          <p:sp>
            <p:nvSpPr>
              <p:cNvPr id="361" name=""/>
              <p:cNvSpPr/>
              <p:nvPr/>
            </p:nvSpPr>
            <p:spPr>
              <a:xfrm>
                <a:off x="5486400" y="2133720"/>
                <a:ext cx="2971800" cy="380880"/>
              </a:xfrm>
              <a:prstGeom prst="rect">
                <a:avLst/>
              </a:prstGeom>
              <a:noFill/>
              <a:ln cap="sq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486400" y="2133720"/>
                <a:ext cx="2229120" cy="380880"/>
              </a:xfrm>
              <a:prstGeom prst="rect">
                <a:avLst/>
              </a:prstGeom>
              <a:noFill/>
              <a:ln cap="sq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248520" y="2133720"/>
                <a:ext cx="762120" cy="380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5486400" y="3124440"/>
              <a:ext cx="2971800" cy="380880"/>
              <a:chOff x="5486400" y="3124440"/>
              <a:chExt cx="2971800" cy="380880"/>
            </a:xfrm>
          </p:grpSpPr>
          <p:sp>
            <p:nvSpPr>
              <p:cNvPr id="365" name=""/>
              <p:cNvSpPr/>
              <p:nvPr/>
            </p:nvSpPr>
            <p:spPr>
              <a:xfrm>
                <a:off x="5486400" y="3124440"/>
                <a:ext cx="2971800" cy="380880"/>
              </a:xfrm>
              <a:prstGeom prst="rect">
                <a:avLst/>
              </a:prstGeom>
              <a:noFill/>
              <a:ln cap="sq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486400" y="3124440"/>
                <a:ext cx="2229120" cy="380880"/>
              </a:xfrm>
              <a:prstGeom prst="rect">
                <a:avLst/>
              </a:prstGeom>
              <a:noFill/>
              <a:ln cap="sq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248520" y="3124440"/>
                <a:ext cx="762120" cy="380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ookup blurriness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800240" y="5029200"/>
            <a:ext cx="3886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 the screen-space blurrines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4419720" y="190512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ok up screen-space blurriness from W 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143000" y="4191120"/>
            <a:ext cx="27432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A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8-bit precision distance from came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0.0: camera posi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.0: far cl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4851360" y="3581280"/>
            <a:ext cx="3746520" cy="838080"/>
            <a:chOff x="4851360" y="3581280"/>
            <a:chExt cx="3746520" cy="838080"/>
          </a:xfrm>
        </p:grpSpPr>
        <p:pic>
          <p:nvPicPr>
            <p:cNvPr id="373" name="dof_wtable" descr=""/>
            <p:cNvPicPr/>
            <p:nvPr/>
          </p:nvPicPr>
          <p:blipFill>
            <a:blip r:embed="rId1"/>
            <a:stretch/>
          </p:blipFill>
          <p:spPr>
            <a:xfrm>
              <a:off x="5285880" y="3962160"/>
              <a:ext cx="2994480" cy="45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74" name=""/>
            <p:cNvSpPr/>
            <p:nvPr/>
          </p:nvSpPr>
          <p:spPr>
            <a:xfrm>
              <a:off x="4851360" y="3581280"/>
              <a:ext cx="190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:0.0(camera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281720" y="3581280"/>
              <a:ext cx="131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:1.0(far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5081760" y="3048120"/>
            <a:ext cx="16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exreg2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1" idx="2"/>
            <a:endCxn id="376" idx="0"/>
          </p:cNvCxnSpPr>
          <p:nvPr/>
        </p:nvCxnSpPr>
        <p:spPr>
          <a:xfrm flipH="1" flipV="1" rot="5400000">
            <a:off x="2958120" y="2602800"/>
            <a:ext cx="2518200" cy="3407400"/>
          </a:xfrm>
          <a:prstGeom prst="bentConnector5">
            <a:avLst>
              <a:gd name="adj1" fmla="val -9064"/>
              <a:gd name="adj2" fmla="val 57734"/>
              <a:gd name="adj3" fmla="val 109064"/>
            </a:avLst>
          </a:prstGeom>
          <a:ln w="507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78" name=""/>
          <p:cNvSpPr/>
          <p:nvPr/>
        </p:nvSpPr>
        <p:spPr>
          <a:xfrm>
            <a:off x="5505120" y="4419720"/>
            <a:ext cx="256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D look-up tex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838080" y="2514600"/>
            <a:ext cx="2971800" cy="1389600"/>
            <a:chOff x="838080" y="2514600"/>
            <a:chExt cx="2971800" cy="1389600"/>
          </a:xfrm>
        </p:grpSpPr>
        <p:sp>
          <p:nvSpPr>
            <p:cNvPr id="380" name=""/>
            <p:cNvSpPr/>
            <p:nvPr/>
          </p:nvSpPr>
          <p:spPr>
            <a:xfrm>
              <a:off x="914400" y="35053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A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676520" y="35053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62320" y="35053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G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124080" y="350532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B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14400" y="29718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typecas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86000" y="3048120"/>
              <a:ext cx="0" cy="380880"/>
            </a:xfrm>
            <a:prstGeom prst="line">
              <a:avLst/>
            </a:prstGeom>
            <a:ln cap="sq" w="507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371600" y="251460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D2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24080" y="251460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838080" y="2514600"/>
              <a:ext cx="2971800" cy="380880"/>
              <a:chOff x="838080" y="2514600"/>
              <a:chExt cx="2971800" cy="380880"/>
            </a:xfrm>
          </p:grpSpPr>
          <p:sp>
            <p:nvSpPr>
              <p:cNvPr id="389" name=""/>
              <p:cNvSpPr/>
              <p:nvPr/>
            </p:nvSpPr>
            <p:spPr>
              <a:xfrm>
                <a:off x="838080" y="2514600"/>
                <a:ext cx="2971800" cy="380880"/>
              </a:xfrm>
              <a:prstGeom prst="rect">
                <a:avLst/>
              </a:prstGeom>
              <a:noFill/>
              <a:ln cap="sq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38080" y="2514600"/>
                <a:ext cx="2229120" cy="380880"/>
              </a:xfrm>
              <a:prstGeom prst="rect">
                <a:avLst/>
              </a:prstGeom>
              <a:noFill/>
              <a:ln cap="sq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600200" y="2514600"/>
                <a:ext cx="762120" cy="380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838080" y="3505320"/>
              <a:ext cx="2971800" cy="380880"/>
              <a:chOff x="838080" y="3505320"/>
              <a:chExt cx="2971800" cy="380880"/>
            </a:xfrm>
          </p:grpSpPr>
          <p:sp>
            <p:nvSpPr>
              <p:cNvPr id="393" name=""/>
              <p:cNvSpPr/>
              <p:nvPr/>
            </p:nvSpPr>
            <p:spPr>
              <a:xfrm>
                <a:off x="838080" y="3505320"/>
                <a:ext cx="2971800" cy="380880"/>
              </a:xfrm>
              <a:prstGeom prst="rect">
                <a:avLst/>
              </a:prstGeom>
              <a:noFill/>
              <a:ln cap="sq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38080" y="3505320"/>
                <a:ext cx="2229120" cy="380880"/>
              </a:xfrm>
              <a:prstGeom prst="rect">
                <a:avLst/>
              </a:prstGeom>
              <a:noFill/>
              <a:ln cap="sq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600200" y="3505320"/>
                <a:ext cx="762120" cy="380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lending based on blurriness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se two blurred images in addi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o the original frame buff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ne is a bit blurred and the other is strongly blurr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The DOF result is a blend of three imag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the frame buffer and two blurred image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etter than a blend of two imag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the frame buffer and one blurred imag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he blurred images can be smal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256x192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160x120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in DOUBLE-S.T.E.A.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alculate Blend factor Alpha and Color (1)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alculate “Blend Alpha” and “Blend Color” in Pixel Shad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lpha-blend with the frame buff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lend Alpha should always be smaller than 1.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deally, alpha and color outputs satisfy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 : screen-space blurrines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lur1 : a bit blurred image (256x192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lur2 : strongly blurred image (160x120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When r = 0.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8840" indent="-2286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.a = 0.0 (no blend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28840" indent="-2286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.rgb = blur1 (will not affect the result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00"/>
              </a:spcBef>
              <a:buClr>
                <a:srgbClr val="ff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The resulting pixel is 100% the frame buffe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alculate Blend factor Alpha and Color (2)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6960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When r = 0.5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.a = somewhat smaller than 1.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.rgb = blur1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51"/>
              </a:spcBef>
              <a:buClr>
                <a:srgbClr val="ff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The result is almost the blur1 imag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When r = 1.0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.a = slightly smaller than 1.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.rgb = a blend of blur1 and blur2 (almost blur2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51"/>
              </a:spcBef>
              <a:buClr>
                <a:srgbClr val="ff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The result is almost the blur2 image</a:t>
            </a:r>
            <a:r>
              <a:rPr b="1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OF Shader Code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f (blurriness &gt; 0.5) {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ut.a = blurriness * 0.25 + 0.75 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lse {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ut.a = blurriness * 1.5 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blurriness: 0.0 -&gt; rgbFactor = -0.75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blurriness: 0.5 -&gt; rgbFactor = 0.0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blurriness: 1.0 -&gt; rgbFactor = 0.75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gbFactor = blurriness * 0.75 - 0.75 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lerp blur1 and blur2 by rgbFa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ut.rgb = blur1 + (blur2 - blur1) * rgbFactor 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4668480" y="1600200"/>
            <a:ext cx="3984480" cy="4116960"/>
            <a:chOff x="4668480" y="1600200"/>
            <a:chExt cx="3984480" cy="4116960"/>
          </a:xfrm>
        </p:grpSpPr>
        <p:sp>
          <p:nvSpPr>
            <p:cNvPr id="405" name=""/>
            <p:cNvSpPr/>
            <p:nvPr/>
          </p:nvSpPr>
          <p:spPr>
            <a:xfrm>
              <a:off x="6095160" y="5410080"/>
              <a:ext cx="108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blurrines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257800" y="2666880"/>
              <a:ext cx="2743200" cy="243864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815360" y="4952880"/>
              <a:ext cx="43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ff0000"/>
                  </a:solidFill>
                  <a:latin typeface="Tahoma"/>
                </a:rPr>
                <a:t>0.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815360" y="2286000"/>
              <a:ext cx="43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ff0000"/>
                  </a:solidFill>
                  <a:latin typeface="Tahoma"/>
                </a:rPr>
                <a:t>1.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710840" y="5181480"/>
              <a:ext cx="43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Tahoma"/>
                </a:rPr>
                <a:t>1.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486400" y="5334120"/>
              <a:ext cx="2133720" cy="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5029200" y="2666880"/>
              <a:ext cx="0" cy="2286000"/>
            </a:xfrm>
            <a:prstGeom prst="line">
              <a:avLst/>
            </a:prstGeom>
            <a:ln cap="sq"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339240" y="5181480"/>
              <a:ext cx="4352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Tahoma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668480" y="3276720"/>
              <a:ext cx="5374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ff0000"/>
                  </a:solidFill>
                  <a:latin typeface="Tahoma"/>
                </a:rPr>
                <a:t>0.7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739040" y="2819520"/>
              <a:ext cx="4352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ff0000"/>
                  </a:solidFill>
                  <a:latin typeface="Tahoma"/>
                </a:rPr>
                <a:t>0.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257800" y="342900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57800" y="297180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6629400" y="2666880"/>
              <a:ext cx="0" cy="243864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004240" y="2438280"/>
              <a:ext cx="64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blur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004240" y="4952880"/>
              <a:ext cx="64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blur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8229600" y="2742840"/>
              <a:ext cx="0" cy="2133720"/>
            </a:xfrm>
            <a:prstGeom prst="line">
              <a:avLst/>
            </a:prstGeom>
            <a:ln cap="sq"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043960" y="5181480"/>
              <a:ext cx="43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Tahoma"/>
                </a:rPr>
                <a:t>0.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949280" y="1600200"/>
              <a:ext cx="95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ahoma"/>
                </a:rPr>
                <a:t>output.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948200" y="1905120"/>
              <a:ext cx="114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ff"/>
                  </a:solidFill>
                  <a:latin typeface="Tahoma"/>
                </a:rPr>
                <a:t>output.rg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257800" y="2971800"/>
              <a:ext cx="2743200" cy="2133720"/>
            </a:xfrm>
            <a:custGeom>
              <a:avLst/>
              <a:gdLst/>
              <a:ahLst/>
              <a:rect l="l" t="t" r="r" b="b"/>
              <a:pathLst>
                <a:path w="1728" h="1344">
                  <a:moveTo>
                    <a:pt x="0" y="1344"/>
                  </a:moveTo>
                  <a:lnTo>
                    <a:pt x="864" y="288"/>
                  </a:lnTo>
                  <a:lnTo>
                    <a:pt x="1728" y="0"/>
                  </a:lnTo>
                </a:path>
              </a:pathLst>
            </a:custGeom>
            <a:noFill/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622920" y="3405240"/>
              <a:ext cx="1371600" cy="1676520"/>
            </a:xfrm>
            <a:custGeom>
              <a:avLst/>
              <a:gdLst/>
              <a:ahLst/>
              <a:rect l="l" t="t" r="r" b="b"/>
              <a:pathLst>
                <a:path w="864" h="1056">
                  <a:moveTo>
                    <a:pt x="0" y="1056"/>
                  </a:moveTo>
                  <a:lnTo>
                    <a:pt x="864" y="0"/>
                  </a:lnTo>
                </a:path>
              </a:pathLst>
            </a:custGeom>
            <a:noFill/>
            <a:ln cap="sq"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95880" y="1752480"/>
              <a:ext cx="855720" cy="1800"/>
            </a:xfrm>
            <a:custGeom>
              <a:avLst/>
              <a:gdLst/>
              <a:ahLst/>
              <a:rect l="l" t="t" r="r" b="b"/>
              <a:pathLst>
                <a:path w="539" h="1">
                  <a:moveTo>
                    <a:pt x="0" y="0"/>
                  </a:moveTo>
                  <a:lnTo>
                    <a:pt x="539" y="0"/>
                  </a:lnTo>
                </a:path>
              </a:pathLst>
            </a:custGeom>
            <a:noFill/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095880" y="2057400"/>
              <a:ext cx="855720" cy="1440"/>
            </a:xfrm>
            <a:custGeom>
              <a:avLst/>
              <a:gdLst/>
              <a:ahLst/>
              <a:rect l="l" t="t" r="r" b="b"/>
              <a:pathLst>
                <a:path w="539" h="1">
                  <a:moveTo>
                    <a:pt x="0" y="0"/>
                  </a:moveTo>
                  <a:lnTo>
                    <a:pt x="539" y="0"/>
                  </a:lnTo>
                </a:path>
              </a:pathLst>
            </a:custGeom>
            <a:noFill/>
            <a:ln cap="sq"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ixel Shader Extensions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gister combiners for Pixel Shade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neral combiner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lor blending instruction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inal combin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og blend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pecular ad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OF Pixel Shader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6846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xps.1.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ef c0,  0.0f, 0.0f, 0.0f,  0.15f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(0.9f - 0.75f)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ef c1,  0.0f, 0.0f, 0.0f,  0.75f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 t0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t0.a : W buffer (distance from camera)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reg2ar t1, t0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t1.a : screen-space blurriness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 t2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t2   : blurred frame buffer (256x192)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 t3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t3   : strongly blurred buffer (160x120)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ad_d2 r0.rgb,  t1_bx2.a, c0.a,  c1.a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+mov r0.a,  t1.a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ul r1.rgb,  t1_bx2.a, c1.a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+xmmc_x2 DISCARD.a, DISCARD.a, r0.a,  t1.a, c1.a,  1-ZERO, r0.b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Color output will be alpha blended with the frame buffer based on the alpha output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xfc r1.b, t3, t2, ZERO, ZERO, ZERO, r0.a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1066680" y="5715000"/>
            <a:ext cx="541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DISCARD” output register discards the resul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OF processing textures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2" name="dof_table_org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433" name="dof_table2" descr=""/>
          <p:cNvPicPr/>
          <p:nvPr/>
        </p:nvPicPr>
        <p:blipFill>
          <a:blip r:embed="rId2"/>
          <a:stretch/>
        </p:blipFill>
        <p:spPr>
          <a:xfrm>
            <a:off x="3733920" y="1828800"/>
            <a:ext cx="4800600" cy="3581280"/>
          </a:xfrm>
          <a:prstGeom prst="rect">
            <a:avLst/>
          </a:prstGeom>
          <a:ln w="0">
            <a:noFill/>
          </a:ln>
        </p:spPr>
      </p:pic>
      <p:pic>
        <p:nvPicPr>
          <p:cNvPr id="434" name="dof_wtable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2819520" cy="45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5" name=""/>
          <p:cNvSpPr/>
          <p:nvPr/>
        </p:nvSpPr>
        <p:spPr>
          <a:xfrm>
            <a:off x="838080" y="45720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D look-up tex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at maps W value to blurrin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09880" y="53341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56x19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lurred im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248520" y="5334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60x120 Strongly blurr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62120" y="13716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riginal frame buf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33920" y="1143000"/>
            <a:ext cx="259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nal image with blurrin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558840" y="137160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 buf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14800" y="6019920"/>
            <a:ext cx="4876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mages Copyright© 2002 BUNKASHA PUBLISHING CO.,LTD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epth of Field images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3" name="dof_blur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444" name="dof_pin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445" name="dof_focus" descr=""/>
          <p:cNvPicPr/>
          <p:nvPr/>
        </p:nvPicPr>
        <p:blipFill>
          <a:blip r:embed="rId3"/>
          <a:stretch/>
        </p:blipFill>
        <p:spPr>
          <a:xfrm>
            <a:off x="6172200" y="18288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446" name="dof2_blur" descr=""/>
          <p:cNvPicPr/>
          <p:nvPr/>
        </p:nvPicPr>
        <p:blipFill>
          <a:blip r:embed="rId4"/>
          <a:stretch/>
        </p:blipFill>
        <p:spPr>
          <a:xfrm>
            <a:off x="3352680" y="39625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447" name="dof2_focus" descr=""/>
          <p:cNvPicPr/>
          <p:nvPr/>
        </p:nvPicPr>
        <p:blipFill>
          <a:blip r:embed="rId5"/>
          <a:stretch/>
        </p:blipFill>
        <p:spPr>
          <a:xfrm>
            <a:off x="6172200" y="39625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448" name="dof2_pin" descr=""/>
          <p:cNvPicPr/>
          <p:nvPr/>
        </p:nvPicPr>
        <p:blipFill>
          <a:blip r:embed="rId6"/>
          <a:stretch/>
        </p:blipFill>
        <p:spPr>
          <a:xfrm>
            <a:off x="533520" y="39625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685800" y="13716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riginal 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657600" y="13716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nal 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1143000"/>
            <a:ext cx="259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nal images with blurrin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60199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mages Copyright© 2002 BUNKASHA PUBLISHING CO.,LTD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391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inal Image (1)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4" name="dof_blur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3962520" y="60199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pyright© 2002 BUNKASHA PUBLISHING CO.,LTD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391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inal Image (2)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7" name="dof2_blur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3962520" y="60199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pyright© 2002 BUNKASHA PUBLISHING CO.,LTD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ther post-processing filters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6483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rojecto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eparation of RGB compon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amera imag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mphasize contras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often edg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llust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dge detec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ale color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rojector (RGB separation) Pixel Shader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276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xps.1.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  c0.rgb : glare intensity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  c2.rgb : fadeout color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  c2.a   : fadeout factor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  c3.rgb : modulator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ef c5,  </a:t>
            </a:r>
            <a:r>
              <a:rPr b="1" lang="ja-JP" sz="12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1.0f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, 0.0f, 0.0f,  0.0f // R mask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ef c6,  0.0f, </a:t>
            </a:r>
            <a:r>
              <a:rPr b="1" lang="ja-JP" sz="12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1.0f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, 0.0f,  0.0f // G mask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ef c7,  0.0f, 0.0f, </a:t>
            </a:r>
            <a:r>
              <a:rPr b="1" lang="ja-JP" sz="12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1.0f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,  0.0f // B mask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 t0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frame buffer(R jittered)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 t1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frame buffer(G jittered)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 t2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frame buffer(B jittered)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 t3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generated glar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"/>
          <p:cNvSpPr/>
          <p:nvPr/>
        </p:nvSpPr>
        <p:spPr>
          <a:xfrm>
            <a:off x="4038480" y="2438280"/>
            <a:ext cx="464832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Tahoma"/>
              </a:rPr>
              <a:t>// Sum up using RGB mas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Tahoma"/>
              </a:rPr>
              <a:t>xmma DISCARD.rgb, DISCARD.rgb, r0.rgb, t0, c5,  t1, c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Tahoma"/>
              </a:rPr>
              <a:t>mad r0.rgb,  t2, c7, r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// Add gl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mad r0, t3, c0, r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// Modulate and fade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xfc c2.a, c2, r0, ZERO, r0, c3, r0.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14800" y="5257800"/>
            <a:ext cx="449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</a:rPr>
              <a:t>Texcoords for t0,t1,t2 are jittered for RGB separation (Left/Center/Righ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rojector (RGB separation)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6" name="project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943600" cy="4457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67" name=""/>
          <p:cNvSpPr/>
          <p:nvPr/>
        </p:nvSpPr>
        <p:spPr>
          <a:xfrm>
            <a:off x="3581280" y="6019920"/>
            <a:ext cx="4267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pyright© 2002 BUNKASHA PUBLISHING CO.,LTD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amera image Pixel Shader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25280" y="1800000"/>
            <a:ext cx="3089160" cy="36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xps.1.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  c4.rgb : gray scale coefficients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ef c4,  0.30f, 0.59f, 0.11f,  0.0f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blend factor for three images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ef c5,  0.0f, 0.0f, 0.0f,  0.5f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ef c6,  0.0f, 0.0f, 0.0f,  0.333333333f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 t0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frame buffer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 t1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frame buffer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 t2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frame buffer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 t3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glar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Soften frame buffer edges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rp r0,  c5.a,  t1, t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rp r0,  c6.a,  t0, r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"/>
          <p:cNvSpPr/>
          <p:nvPr/>
        </p:nvSpPr>
        <p:spPr>
          <a:xfrm>
            <a:off x="4800600" y="1905120"/>
            <a:ext cx="3733920" cy="36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// Add gl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mad r0,  t3, c0,  r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Tahoma"/>
              </a:rPr>
              <a:t>// Calculate lumin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Tahoma"/>
              </a:rPr>
              <a:t>dp3 r1,  r0, c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Tahoma"/>
              </a:rPr>
              <a:t>// Emphasize contra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Tahoma"/>
              </a:rPr>
              <a:t>mul_x2  v0, r0, r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Tahoma"/>
              </a:rPr>
              <a:t>lrp r0, r1,  r0, v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// Modulate col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mul_x2 r0,  r0, c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// Fade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xfc c2.a, c2, r0, ZERO, ZERO, ZERO, r0.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90720" y="556272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Tahoma"/>
              </a:rPr>
              <a:t>Texcoords for t0,t1,t2 are jittered for softening ed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amera image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3" name="photo_00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2692440" cy="2019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4" name="photo_01" descr=""/>
          <p:cNvPicPr/>
          <p:nvPr/>
        </p:nvPicPr>
        <p:blipFill>
          <a:blip r:embed="rId2"/>
          <a:stretch/>
        </p:blipFill>
        <p:spPr>
          <a:xfrm>
            <a:off x="3429000" y="1828800"/>
            <a:ext cx="2666880" cy="200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5" name="photo_02" descr=""/>
          <p:cNvPicPr/>
          <p:nvPr/>
        </p:nvPicPr>
        <p:blipFill>
          <a:blip r:embed="rId3"/>
          <a:stretch/>
        </p:blipFill>
        <p:spPr>
          <a:xfrm>
            <a:off x="6172200" y="1828800"/>
            <a:ext cx="2666880" cy="200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6" name="photo_03" descr=""/>
          <p:cNvPicPr/>
          <p:nvPr/>
        </p:nvPicPr>
        <p:blipFill>
          <a:blip r:embed="rId4"/>
          <a:stretch/>
        </p:blipFill>
        <p:spPr>
          <a:xfrm>
            <a:off x="685800" y="3886200"/>
            <a:ext cx="2692440" cy="2019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7" name="photo_05" descr=""/>
          <p:cNvPicPr/>
          <p:nvPr/>
        </p:nvPicPr>
        <p:blipFill>
          <a:blip r:embed="rId5"/>
          <a:stretch/>
        </p:blipFill>
        <p:spPr>
          <a:xfrm>
            <a:off x="6172200" y="3886200"/>
            <a:ext cx="2666880" cy="200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8" name="photo_06" descr=""/>
          <p:cNvPicPr/>
          <p:nvPr/>
        </p:nvPicPr>
        <p:blipFill>
          <a:blip r:embed="rId6"/>
          <a:stretch/>
        </p:blipFill>
        <p:spPr>
          <a:xfrm>
            <a:off x="3429000" y="3886200"/>
            <a:ext cx="2666880" cy="200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9" name=""/>
          <p:cNvSpPr/>
          <p:nvPr/>
        </p:nvSpPr>
        <p:spPr>
          <a:xfrm>
            <a:off x="4267080" y="5943600"/>
            <a:ext cx="4876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mages Copyright© 2002 BUNKASHA PUBLISHING CO.,LTD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neral Combiners (1)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7122960" cy="41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xmma d0,d1,d2, s0,s1,s2,s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0 = s0*s1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1 = s2*s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2 = s0*s1 + s2*s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xmmc d0,d1,d2, s0,s1,s2,s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0 = s0*s1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1 = s2*s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2 = (r0.a&gt;0.5) ? s2*s3 : s0*s1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dge Detection Pixel Shader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632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Edge detection pixel shade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xps.1.1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Up/Down/Left/Right jittered sampling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 t0</a:t>
            </a: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frame buffer (jittered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 t1</a:t>
            </a: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frame buffer (jittered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 t2</a:t>
            </a: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frame buffer (jittered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 t3</a:t>
            </a: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frame buffer (jittered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R/G/B sub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ub_x2 r0,  t0, t1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ub_x2 r1,  t2, t3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Approximate absolute valu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dp3_x4 r0,  r0, r0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dp3_x4 r1,  r1, r1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xdd_x4 r0, r1,  r0, r0,  r1, r1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complement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ub r0, 1-r0, r1</a:t>
            </a: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1 - r0 - r1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7696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llustration Pixel Shader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876920" y="1752120"/>
            <a:ext cx="3504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Edge detection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ub_x2 r0,  t0, t1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ub_x2 r1,  t2, t3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xdd_x4 r0, r1,  r0, r0,  r1, r1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ub r0, 1-r0, r1</a:t>
            </a: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1 - r0 - r1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Pale coloring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p3_x4 t1, t0, c4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rp t1.a,  c7.b,  1-ZERO, t1.a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rp t0, c7.a, t0, t1.a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ul_x2 r0, r0_bx2, t0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xfc c2.a, c2, PROD, ZERO, r0, r0, r0.a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990720" y="1752480"/>
            <a:ext cx="36194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Illustration pixel shade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xps.1.1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ef c2,  0.0f, 0.0f, 0.0f,  0.0f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ef c3,  0.0f, 0.0f, 0.0f,  0.5f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ef c4,  0.30f, 0.59f, 0.11f,  0.0f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ef c7,  0.0f, 0.0f, 0.5f,  0.75f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jittered sampling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 t0</a:t>
            </a: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frame buffer (jittered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 t1</a:t>
            </a: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frame buffer (jittered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 t2</a:t>
            </a: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frame buffer (jittered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 t3</a:t>
            </a: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frame buffer (jittered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7621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llustration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6" name="illustration_00" descr=""/>
          <p:cNvPicPr/>
          <p:nvPr/>
        </p:nvPicPr>
        <p:blipFill>
          <a:blip r:embed="rId1"/>
          <a:stretch/>
        </p:blipFill>
        <p:spPr>
          <a:xfrm>
            <a:off x="5486400" y="3581280"/>
            <a:ext cx="3200400" cy="2400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87" name="illustration_01" descr=""/>
          <p:cNvPicPr/>
          <p:nvPr/>
        </p:nvPicPr>
        <p:blipFill>
          <a:blip r:embed="rId2"/>
          <a:stretch/>
        </p:blipFill>
        <p:spPr>
          <a:xfrm>
            <a:off x="5486400" y="1085760"/>
            <a:ext cx="3200400" cy="2400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88" name="illustration_02" descr=""/>
          <p:cNvPicPr/>
          <p:nvPr/>
        </p:nvPicPr>
        <p:blipFill>
          <a:blip r:embed="rId3"/>
          <a:stretch/>
        </p:blipFill>
        <p:spPr>
          <a:xfrm>
            <a:off x="457200" y="2228760"/>
            <a:ext cx="4952880" cy="3714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89" name=""/>
          <p:cNvSpPr/>
          <p:nvPr/>
        </p:nvSpPr>
        <p:spPr>
          <a:xfrm>
            <a:off x="4114800" y="6019920"/>
            <a:ext cx="4876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mages Copyright© 2002 BUNKASHA PUBLISHING CO.,LTD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neral Combiners (2)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5280" y="198072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xdd d0,d1, s0,s1,s2,s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0 = s0 dp3 s1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1 = s2 dp3 s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xdm d0,d1, s0,s1,s2,s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0 = s0 dp3 s1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1 = s2*s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inal Combiner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xfc s0,s1,s2,s3, s4,s5, s6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inal output rgb = s0*s1 + (1-s0)*s2 + s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inal output alpha = s6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inal combiner special input register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ROD = s4*s5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UM = r0+v1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OG.a = fog fa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ake HDR and Glare filters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" name="0005" descr=""/>
          <p:cNvPicPr/>
          <p:nvPr/>
        </p:nvPicPr>
        <p:blipFill>
          <a:blip r:embed="rId1"/>
          <a:stretch/>
        </p:blipFill>
        <p:spPr>
          <a:xfrm>
            <a:off x="3886200" y="2209680"/>
            <a:ext cx="4952880" cy="3714840"/>
          </a:xfrm>
          <a:prstGeom prst="rect">
            <a:avLst/>
          </a:prstGeom>
          <a:ln w="0">
            <a:noFill/>
          </a:ln>
        </p:spPr>
      </p:pic>
      <p:pic>
        <p:nvPicPr>
          <p:cNvPr id="57" name="0004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4724280" cy="3543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962520" y="60199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mages Copyright© 2002 BUNKASHA PUBLISHING CO.,LTD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High Dynamic Range (HDR) Rendering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2640" y="2285640"/>
            <a:ext cx="7162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Very important in represent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al-world brightnes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Very bright scene causes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“Glare”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7T04:27:01Z</dcterms:created>
  <dc:creator>川瀬 正樹</dc:creator>
  <dc:description/>
  <dc:language>en-US</dc:language>
  <cp:lastModifiedBy>川瀬 正樹</cp:lastModifiedBy>
  <dcterms:modified xsi:type="dcterms:W3CDTF">2003-03-17T04:20:58Z</dcterms:modified>
  <cp:revision>1942</cp:revision>
  <dc:subject/>
  <dc:title>DOUBLE-S.T.E.A.L.における リアルタイムCG表現技法</dc:title>
</cp:coreProperties>
</file>